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 flipH="1">
            <a:off x="7162560" y="6630840"/>
            <a:ext cx="609480" cy="0"/>
          </a:xfrm>
          <a:prstGeom prst="line">
            <a:avLst/>
          </a:prstGeom>
          <a:ln w="38160">
            <a:solidFill>
              <a:srgbClr val="336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 flipH="1">
            <a:off x="1863360" y="6707160"/>
            <a:ext cx="5832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rcRect l="0" t="-2953" r="24152" b="0"/>
          <a:stretch/>
        </p:blipFill>
        <p:spPr>
          <a:xfrm>
            <a:off x="7624800" y="6018120"/>
            <a:ext cx="1366920" cy="7653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Smaller logo"/>
          <p:cNvPicPr/>
          <p:nvPr/>
        </p:nvPicPr>
        <p:blipFill>
          <a:blip r:embed="rId3"/>
          <a:stretch/>
        </p:blipFill>
        <p:spPr>
          <a:xfrm>
            <a:off x="109440" y="6059520"/>
            <a:ext cx="1965600" cy="70308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1"/>
          <p:cNvGrpSpPr/>
          <p:nvPr/>
        </p:nvGrpSpPr>
        <p:grpSpPr>
          <a:xfrm>
            <a:off x="6730920" y="6012000"/>
            <a:ext cx="736560" cy="763560"/>
            <a:chOff x="6730920" y="6012000"/>
            <a:chExt cx="736560" cy="763560"/>
          </a:xfrm>
        </p:grpSpPr>
        <p:grpSp>
          <p:nvGrpSpPr>
            <p:cNvPr id="5" name="Group 12"/>
            <p:cNvGrpSpPr/>
            <p:nvPr/>
          </p:nvGrpSpPr>
          <p:grpSpPr>
            <a:xfrm>
              <a:off x="6748200" y="6012000"/>
              <a:ext cx="563400" cy="763560"/>
              <a:chOff x="6748200" y="6012000"/>
              <a:chExt cx="563400" cy="763560"/>
            </a:xfrm>
          </p:grpSpPr>
          <p:grpSp>
            <p:nvGrpSpPr>
              <p:cNvPr id="6" name="Group 13"/>
              <p:cNvGrpSpPr/>
              <p:nvPr/>
            </p:nvGrpSpPr>
            <p:grpSpPr>
              <a:xfrm>
                <a:off x="6748200" y="6012000"/>
                <a:ext cx="563400" cy="763560"/>
                <a:chOff x="6748200" y="6012000"/>
                <a:chExt cx="563400" cy="763560"/>
              </a:xfrm>
            </p:grpSpPr>
            <p:grpSp>
              <p:nvGrpSpPr>
                <p:cNvPr id="7" name="Group 14"/>
                <p:cNvGrpSpPr/>
                <p:nvPr/>
              </p:nvGrpSpPr>
              <p:grpSpPr>
                <a:xfrm>
                  <a:off x="6748200" y="6012000"/>
                  <a:ext cx="563400" cy="763560"/>
                  <a:chOff x="6748200" y="6012000"/>
                  <a:chExt cx="563400" cy="763560"/>
                </a:xfrm>
              </p:grpSpPr>
              <p:sp>
                <p:nvSpPr>
                  <p:cNvPr id="8" name="AutoShape 15"/>
                  <p:cNvSpPr/>
                  <p:nvPr/>
                </p:nvSpPr>
                <p:spPr>
                  <a:xfrm>
                    <a:off x="6821280" y="6032520"/>
                    <a:ext cx="419040" cy="743040"/>
                  </a:xfrm>
                  <a:custGeom>
                    <a:avLst/>
                    <a:gdLst>
                      <a:gd name="textAreaLeft" fmla="*/ 20160 w 419040"/>
                      <a:gd name="textAreaRight" fmla="*/ 398880 w 419040"/>
                      <a:gd name="textAreaTop" fmla="*/ 20160 h 743040"/>
                      <a:gd name="textAreaBottom" fmla="*/ 722880 h 743040"/>
                    </a:gdLst>
                    <a:ahLst/>
                    <a:rect l="textAreaLeft" t="textAreaTop" r="textAreaRight" b="textAreaBottom"/>
                    <a:pathLst>
                      <a:path w="21600" h="3828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34687"/>
                        </a:lnTo>
                        <a:arcTo wR="3600" hR="3600" stAng="10800000" swAng="-5400000"/>
                        <a:lnTo>
                          <a:pt x="18000" y="3828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Text Box 16"/>
                  <p:cNvSpPr/>
                  <p:nvPr/>
                </p:nvSpPr>
                <p:spPr>
                  <a:xfrm>
                    <a:off x="6748200" y="6012000"/>
                    <a:ext cx="5634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ffffff"/>
                        </a:solidFill>
                        <a:latin typeface="Gill Sans MT"/>
                      </a:rPr>
                      <a:t>SPERM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" name="Picture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60880" y="6656400"/>
                  <a:ext cx="339840" cy="103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" name="Group 18"/>
              <p:cNvGrpSpPr/>
              <p:nvPr/>
            </p:nvGrpSpPr>
            <p:grpSpPr>
              <a:xfrm>
                <a:off x="7003800" y="6318000"/>
                <a:ext cx="196920" cy="196920"/>
                <a:chOff x="7003800" y="6318000"/>
                <a:chExt cx="196920" cy="196920"/>
              </a:xfrm>
            </p:grpSpPr>
            <p:sp>
              <p:nvSpPr>
                <p:cNvPr id="12" name="Oval 19"/>
                <p:cNvSpPr/>
                <p:nvPr/>
              </p:nvSpPr>
              <p:spPr>
                <a:xfrm rot="16200000">
                  <a:off x="7003800" y="6318000"/>
                  <a:ext cx="196920" cy="1969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20"/>
                <p:cNvGrpSpPr/>
                <p:nvPr/>
              </p:nvGrpSpPr>
              <p:grpSpPr>
                <a:xfrm>
                  <a:off x="7016760" y="6356880"/>
                  <a:ext cx="153720" cy="117000"/>
                  <a:chOff x="7016760" y="6356880"/>
                  <a:chExt cx="153720" cy="117000"/>
                </a:xfrm>
              </p:grpSpPr>
              <p:sp>
                <p:nvSpPr>
                  <p:cNvPr id="14" name="Oval 21"/>
                  <p:cNvSpPr/>
                  <p:nvPr/>
                </p:nvSpPr>
                <p:spPr>
                  <a:xfrm rot="16200000">
                    <a:off x="7068240" y="6454080"/>
                    <a:ext cx="23760" cy="1584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Oval 22"/>
                  <p:cNvSpPr/>
                  <p:nvPr/>
                </p:nvSpPr>
                <p:spPr>
                  <a:xfrm rot="16200000">
                    <a:off x="7080840" y="6374880"/>
                    <a:ext cx="23760" cy="1584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Oval 23"/>
                  <p:cNvSpPr/>
                  <p:nvPr/>
                </p:nvSpPr>
                <p:spPr>
                  <a:xfrm rot="16200000">
                    <a:off x="7150320" y="6442560"/>
                    <a:ext cx="24120" cy="1584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" name="Group 24"/>
                  <p:cNvGrpSpPr/>
                  <p:nvPr/>
                </p:nvGrpSpPr>
                <p:grpSpPr>
                  <a:xfrm>
                    <a:off x="7016760" y="6356880"/>
                    <a:ext cx="150840" cy="111960"/>
                    <a:chOff x="7016760" y="6356880"/>
                    <a:chExt cx="150840" cy="111960"/>
                  </a:xfrm>
                </p:grpSpPr>
                <p:sp>
                  <p:nvSpPr>
                    <p:cNvPr id="18" name="Oval 25"/>
                    <p:cNvSpPr/>
                    <p:nvPr/>
                  </p:nvSpPr>
                  <p:spPr>
                    <a:xfrm rot="18301200">
                      <a:off x="7099200" y="6455880"/>
                      <a:ext cx="12600" cy="972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Oval 26"/>
                    <p:cNvSpPr/>
                    <p:nvPr/>
                  </p:nvSpPr>
                  <p:spPr>
                    <a:xfrm rot="18301200">
                      <a:off x="7056360" y="6419160"/>
                      <a:ext cx="12600" cy="972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" name="Oval 27"/>
                    <p:cNvSpPr/>
                    <p:nvPr/>
                  </p:nvSpPr>
                  <p:spPr>
                    <a:xfrm rot="18301200">
                      <a:off x="7017840" y="6416640"/>
                      <a:ext cx="12960" cy="972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" name="Oval 28"/>
                    <p:cNvSpPr/>
                    <p:nvPr/>
                  </p:nvSpPr>
                  <p:spPr>
                    <a:xfrm rot="15081600">
                      <a:off x="7154640" y="6359400"/>
                      <a:ext cx="12600" cy="936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" name="Group 29"/>
              <p:cNvGrpSpPr/>
              <p:nvPr/>
            </p:nvGrpSpPr>
            <p:grpSpPr>
              <a:xfrm>
                <a:off x="6860880" y="6202080"/>
                <a:ext cx="196920" cy="196920"/>
                <a:chOff x="6860880" y="6202080"/>
                <a:chExt cx="196920" cy="196920"/>
              </a:xfrm>
            </p:grpSpPr>
            <p:sp>
              <p:nvSpPr>
                <p:cNvPr id="23" name="Oval 30"/>
                <p:cNvSpPr/>
                <p:nvPr/>
              </p:nvSpPr>
              <p:spPr>
                <a:xfrm rot="16200000">
                  <a:off x="6860880" y="6202080"/>
                  <a:ext cx="196920" cy="1969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Oval 31"/>
                <p:cNvSpPr/>
                <p:nvPr/>
              </p:nvSpPr>
              <p:spPr>
                <a:xfrm rot="18301200">
                  <a:off x="6959880" y="6352200"/>
                  <a:ext cx="14400" cy="972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Oval 32"/>
                <p:cNvSpPr/>
                <p:nvPr/>
              </p:nvSpPr>
              <p:spPr>
                <a:xfrm rot="18301200">
                  <a:off x="6918840" y="6317640"/>
                  <a:ext cx="14400" cy="936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Oval 33"/>
                <p:cNvSpPr/>
                <p:nvPr/>
              </p:nvSpPr>
              <p:spPr>
                <a:xfrm rot="18301200">
                  <a:off x="6879960" y="6314760"/>
                  <a:ext cx="14400" cy="792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Oval 34"/>
                <p:cNvSpPr/>
                <p:nvPr/>
              </p:nvSpPr>
              <p:spPr>
                <a:xfrm rot="15081600">
                  <a:off x="7014960" y="6257880"/>
                  <a:ext cx="14040" cy="792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" name="Group 35"/>
            <p:cNvGrpSpPr/>
            <p:nvPr/>
          </p:nvGrpSpPr>
          <p:grpSpPr>
            <a:xfrm>
              <a:off x="6730920" y="6494400"/>
              <a:ext cx="736560" cy="200520"/>
              <a:chOff x="6730920" y="6494400"/>
              <a:chExt cx="736560" cy="200520"/>
            </a:xfrm>
          </p:grpSpPr>
          <p:sp>
            <p:nvSpPr>
              <p:cNvPr id="29" name="Text Box 36"/>
              <p:cNvSpPr/>
              <p:nvPr/>
            </p:nvSpPr>
            <p:spPr>
              <a:xfrm>
                <a:off x="6730920" y="6494400"/>
                <a:ext cx="380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cc00"/>
                    </a:solidFill>
                    <a:latin typeface="Gill Sans MT"/>
                  </a:rPr>
                  <a:t>H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7"/>
              <p:cNvGrpSpPr/>
              <p:nvPr/>
            </p:nvGrpSpPr>
            <p:grpSpPr>
              <a:xfrm>
                <a:off x="6886440" y="6494400"/>
                <a:ext cx="581040" cy="200520"/>
                <a:chOff x="6886440" y="6494400"/>
                <a:chExt cx="581040" cy="200520"/>
              </a:xfrm>
            </p:grpSpPr>
            <p:sp>
              <p:nvSpPr>
                <p:cNvPr id="31" name="Text Box 38"/>
                <p:cNvSpPr/>
                <p:nvPr/>
              </p:nvSpPr>
              <p:spPr>
                <a:xfrm>
                  <a:off x="6886440" y="6494400"/>
                  <a:ext cx="581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cc00"/>
                      </a:solidFill>
                      <a:latin typeface="Gill Sans MT"/>
                    </a:rPr>
                    <a:t>LIT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Line 39"/>
                <p:cNvSpPr/>
                <p:nvPr/>
              </p:nvSpPr>
              <p:spPr>
                <a:xfrm>
                  <a:off x="6948360" y="6599160"/>
                  <a:ext cx="2700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251160" y="5500800"/>
            <a:ext cx="279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Karl Reich, Ph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dependent Foren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ombard 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0320" y="26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86400" y="1844640"/>
            <a:ext cx="733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New and Better Forensic Tes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Human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016280" y="70164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Introduction to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RSID</a:t>
            </a:r>
            <a:r>
              <a:rPr b="1" lang="en-US" sz="2400" spc="-1" strike="noStrike" baseline="50000">
                <a:solidFill>
                  <a:srgbClr val="000000"/>
                </a:solidFill>
                <a:latin typeface="Gill Sans MT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Tests for Forensic Labora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47200" y="2430360"/>
            <a:ext cx="816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ateral Flow Immunochromatograph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trip Tests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dentification of Body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735640" y="4359240"/>
            <a:ext cx="390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RSID</a:t>
            </a:r>
            <a:r>
              <a:rPr b="1" lang="en-US" sz="2800" spc="-1" strike="noStrike" baseline="50000">
                <a:solidFill>
                  <a:srgbClr val="000000"/>
                </a:solidFill>
                <a:latin typeface="Gill Sans MT"/>
              </a:rPr>
              <a:t>TM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4000" spc="-1" strike="noStrike">
                <a:solidFill>
                  <a:srgbClr val="009900"/>
                </a:solidFill>
                <a:latin typeface="Gill Sans MT"/>
              </a:rPr>
              <a:t>SAL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49120" y="1009800"/>
            <a:ext cx="74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est Format: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teral flow immunochromatographic strip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319040" y="1623960"/>
            <a:ext cx="59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tigen Detected: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uman Salivar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195560" y="2238480"/>
            <a:ext cx="75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tibodies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Mouse monoclonals, non-overlapping epi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14080" y="2852640"/>
            <a:ext cx="35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beling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lloidal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705720" y="7632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ill Sans MT"/>
              </a:rPr>
              <a:t>SALIVA</a:t>
            </a:r>
            <a:r>
              <a:rPr b="0" lang="en-US" sz="3200" spc="-1" strike="noStrike">
                <a:solidFill>
                  <a:srgbClr val="0066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609480"/>
            <a:ext cx="9140760" cy="101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330200" y="3467160"/>
            <a:ext cx="52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nsitivity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&lt; 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 saliva [No Hook eff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135800" y="4081320"/>
            <a:ext cx="81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ross-reaction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uman breast milk, fecal samples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(both contain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-amyla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414080" y="469584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est Read-out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293840" y="531180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ssay Time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minutes ‘active’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tretch/>
        </p:blipFill>
        <p:spPr>
          <a:xfrm>
            <a:off x="96840" y="46080"/>
            <a:ext cx="88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730920" y="76320"/>
            <a:ext cx="23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ill Sans MT"/>
              </a:rPr>
              <a:t>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963720" y="1362240"/>
            <a:ext cx="1815840" cy="1519200"/>
            <a:chOff x="963720" y="1362240"/>
            <a:chExt cx="1815840" cy="1519200"/>
          </a:xfrm>
        </p:grpSpPr>
        <p:sp>
          <p:nvSpPr>
            <p:cNvPr id="89" name="AutoShape 5"/>
            <p:cNvSpPr/>
            <p:nvPr/>
          </p:nvSpPr>
          <p:spPr>
            <a:xfrm>
              <a:off x="963720" y="1362240"/>
              <a:ext cx="1815840" cy="15192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>
              <a:off x="1251000" y="1658880"/>
              <a:ext cx="828720" cy="56520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565200"/>
                <a:gd name="textAreaBottom" fmla="*/ 565200 h 565200"/>
              </a:gdLst>
              <a:ahLst/>
              <a:rect l="textAreaLeft" t="textAreaTop" r="textAreaRight" b="textAreaBottom"/>
              <a:pathLst>
                <a:path w="522" h="356">
                  <a:moveTo>
                    <a:pt x="202" y="39"/>
                  </a:moveTo>
                  <a:cubicBezTo>
                    <a:pt x="221" y="10"/>
                    <a:pt x="232" y="11"/>
                    <a:pt x="264" y="0"/>
                  </a:cubicBezTo>
                  <a:cubicBezTo>
                    <a:pt x="298" y="6"/>
                    <a:pt x="334" y="3"/>
                    <a:pt x="366" y="15"/>
                  </a:cubicBezTo>
                  <a:cubicBezTo>
                    <a:pt x="383" y="22"/>
                    <a:pt x="412" y="47"/>
                    <a:pt x="412" y="47"/>
                  </a:cubicBezTo>
                  <a:cubicBezTo>
                    <a:pt x="429" y="72"/>
                    <a:pt x="450" y="92"/>
                    <a:pt x="467" y="117"/>
                  </a:cubicBezTo>
                  <a:cubicBezTo>
                    <a:pt x="490" y="207"/>
                    <a:pt x="455" y="99"/>
                    <a:pt x="498" y="163"/>
                  </a:cubicBezTo>
                  <a:cubicBezTo>
                    <a:pt x="510" y="181"/>
                    <a:pt x="516" y="228"/>
                    <a:pt x="521" y="249"/>
                  </a:cubicBezTo>
                  <a:cubicBezTo>
                    <a:pt x="518" y="259"/>
                    <a:pt x="522" y="274"/>
                    <a:pt x="513" y="280"/>
                  </a:cubicBezTo>
                  <a:cubicBezTo>
                    <a:pt x="506" y="285"/>
                    <a:pt x="498" y="272"/>
                    <a:pt x="490" y="272"/>
                  </a:cubicBezTo>
                  <a:cubicBezTo>
                    <a:pt x="469" y="272"/>
                    <a:pt x="449" y="277"/>
                    <a:pt x="428" y="280"/>
                  </a:cubicBezTo>
                  <a:cubicBezTo>
                    <a:pt x="368" y="320"/>
                    <a:pt x="400" y="308"/>
                    <a:pt x="334" y="319"/>
                  </a:cubicBezTo>
                  <a:cubicBezTo>
                    <a:pt x="279" y="356"/>
                    <a:pt x="306" y="355"/>
                    <a:pt x="257" y="342"/>
                  </a:cubicBezTo>
                  <a:cubicBezTo>
                    <a:pt x="224" y="321"/>
                    <a:pt x="189" y="328"/>
                    <a:pt x="155" y="311"/>
                  </a:cubicBezTo>
                  <a:cubicBezTo>
                    <a:pt x="147" y="307"/>
                    <a:pt x="140" y="300"/>
                    <a:pt x="132" y="296"/>
                  </a:cubicBezTo>
                  <a:cubicBezTo>
                    <a:pt x="117" y="289"/>
                    <a:pt x="85" y="280"/>
                    <a:pt x="85" y="280"/>
                  </a:cubicBezTo>
                  <a:cubicBezTo>
                    <a:pt x="64" y="248"/>
                    <a:pt x="49" y="219"/>
                    <a:pt x="31" y="187"/>
                  </a:cubicBezTo>
                  <a:cubicBezTo>
                    <a:pt x="22" y="171"/>
                    <a:pt x="0" y="140"/>
                    <a:pt x="0" y="140"/>
                  </a:cubicBezTo>
                  <a:cubicBezTo>
                    <a:pt x="9" y="106"/>
                    <a:pt x="10" y="85"/>
                    <a:pt x="39" y="62"/>
                  </a:cubicBezTo>
                  <a:cubicBezTo>
                    <a:pt x="54" y="51"/>
                    <a:pt x="85" y="31"/>
                    <a:pt x="85" y="31"/>
                  </a:cubicBezTo>
                  <a:cubicBezTo>
                    <a:pt x="103" y="34"/>
                    <a:pt x="122" y="35"/>
                    <a:pt x="140" y="39"/>
                  </a:cubicBezTo>
                  <a:cubicBezTo>
                    <a:pt x="148" y="41"/>
                    <a:pt x="155" y="47"/>
                    <a:pt x="163" y="47"/>
                  </a:cubicBezTo>
                  <a:cubicBezTo>
                    <a:pt x="179" y="47"/>
                    <a:pt x="194" y="42"/>
                    <a:pt x="210" y="39"/>
                  </a:cubicBezTo>
                  <a:cubicBezTo>
                    <a:pt x="213" y="38"/>
                    <a:pt x="205" y="39"/>
                    <a:pt x="202" y="39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1076400" y="4700520"/>
            <a:ext cx="1073160" cy="230400"/>
            <a:chOff x="1076400" y="4700520"/>
            <a:chExt cx="1073160" cy="230400"/>
          </a:xfrm>
        </p:grpSpPr>
        <p:grpSp>
          <p:nvGrpSpPr>
            <p:cNvPr id="92" name="Group 8"/>
            <p:cNvGrpSpPr/>
            <p:nvPr/>
          </p:nvGrpSpPr>
          <p:grpSpPr>
            <a:xfrm>
              <a:off x="1076400" y="4702320"/>
              <a:ext cx="162000" cy="228600"/>
              <a:chOff x="1076400" y="4702320"/>
              <a:chExt cx="162000" cy="228600"/>
            </a:xfrm>
          </p:grpSpPr>
          <p:sp>
            <p:nvSpPr>
              <p:cNvPr id="93" name="Line 9"/>
              <p:cNvSpPr/>
              <p:nvPr/>
            </p:nvSpPr>
            <p:spPr>
              <a:xfrm>
                <a:off x="1076400" y="4702320"/>
                <a:ext cx="160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0"/>
              <p:cNvSpPr/>
              <p:nvPr/>
            </p:nvSpPr>
            <p:spPr>
              <a:xfrm>
                <a:off x="1077840" y="4930920"/>
                <a:ext cx="16056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11"/>
            <p:cNvSpPr/>
            <p:nvPr/>
          </p:nvSpPr>
          <p:spPr>
            <a:xfrm>
              <a:off x="1989000" y="4700520"/>
              <a:ext cx="1605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2"/>
          <p:cNvGrpSpPr/>
          <p:nvPr/>
        </p:nvGrpSpPr>
        <p:grpSpPr>
          <a:xfrm>
            <a:off x="7848720" y="3071880"/>
            <a:ext cx="1207440" cy="2471760"/>
            <a:chOff x="7848720" y="3071880"/>
            <a:chExt cx="1207440" cy="2471760"/>
          </a:xfrm>
        </p:grpSpPr>
        <p:grpSp>
          <p:nvGrpSpPr>
            <p:cNvPr id="97" name="Group 13"/>
            <p:cNvGrpSpPr/>
            <p:nvPr/>
          </p:nvGrpSpPr>
          <p:grpSpPr>
            <a:xfrm>
              <a:off x="7848720" y="4713120"/>
              <a:ext cx="811080" cy="830520"/>
              <a:chOff x="7848720" y="4713120"/>
              <a:chExt cx="811080" cy="830520"/>
            </a:xfrm>
          </p:grpSpPr>
          <p:sp>
            <p:nvSpPr>
              <p:cNvPr id="98" name="Oval 14"/>
              <p:cNvSpPr/>
              <p:nvPr/>
            </p:nvSpPr>
            <p:spPr>
              <a:xfrm>
                <a:off x="8570880" y="471636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5"/>
              <p:cNvSpPr/>
              <p:nvPr/>
            </p:nvSpPr>
            <p:spPr>
              <a:xfrm rot="16200000">
                <a:off x="7884360" y="5280480"/>
                <a:ext cx="339480" cy="1350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6"/>
              <p:cNvSpPr/>
              <p:nvPr/>
            </p:nvSpPr>
            <p:spPr>
              <a:xfrm rot="19591800">
                <a:off x="8232840" y="4818240"/>
                <a:ext cx="420480" cy="1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7848720" y="500544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8"/>
              <p:cNvSpPr/>
              <p:nvPr/>
            </p:nvSpPr>
            <p:spPr>
              <a:xfrm>
                <a:off x="7881840" y="5075280"/>
                <a:ext cx="7164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9"/>
              <p:cNvSpPr/>
              <p:nvPr/>
            </p:nvSpPr>
            <p:spPr>
              <a:xfrm>
                <a:off x="7953480" y="5075280"/>
                <a:ext cx="6984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0"/>
              <p:cNvSpPr/>
              <p:nvPr/>
            </p:nvSpPr>
            <p:spPr>
              <a:xfrm>
                <a:off x="8023320" y="5075280"/>
                <a:ext cx="6984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21"/>
              <p:cNvSpPr/>
              <p:nvPr/>
            </p:nvSpPr>
            <p:spPr>
              <a:xfrm>
                <a:off x="8093160" y="5075280"/>
                <a:ext cx="7128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22"/>
              <p:cNvSpPr/>
              <p:nvPr/>
            </p:nvSpPr>
            <p:spPr>
              <a:xfrm>
                <a:off x="8164440" y="5075280"/>
                <a:ext cx="6984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3"/>
              <p:cNvSpPr/>
              <p:nvPr/>
            </p:nvSpPr>
            <p:spPr>
              <a:xfrm>
                <a:off x="7877160" y="5035680"/>
                <a:ext cx="35244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Line 24"/>
            <p:cNvSpPr/>
            <p:nvPr/>
          </p:nvSpPr>
          <p:spPr>
            <a:xfrm flipH="1">
              <a:off x="8101080" y="3236760"/>
              <a:ext cx="1440" cy="11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25" descr="MCj03226260000[1]"/>
            <p:cNvPicPr/>
            <p:nvPr/>
          </p:nvPicPr>
          <p:blipFill>
            <a:blip r:embed="rId3"/>
            <a:stretch/>
          </p:blipFill>
          <p:spPr>
            <a:xfrm>
              <a:off x="8469360" y="3438360"/>
              <a:ext cx="31104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26"/>
            <p:cNvSpPr/>
            <p:nvPr/>
          </p:nvSpPr>
          <p:spPr>
            <a:xfrm>
              <a:off x="8195760" y="3071880"/>
              <a:ext cx="86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15 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7"/>
          <p:cNvGrpSpPr/>
          <p:nvPr/>
        </p:nvGrpSpPr>
        <p:grpSpPr>
          <a:xfrm>
            <a:off x="1656360" y="1019160"/>
            <a:ext cx="5022360" cy="1626120"/>
            <a:chOff x="1656360" y="1019160"/>
            <a:chExt cx="5022360" cy="1626120"/>
          </a:xfrm>
        </p:grpSpPr>
        <p:grpSp>
          <p:nvGrpSpPr>
            <p:cNvPr id="112" name="Group 28"/>
            <p:cNvGrpSpPr/>
            <p:nvPr/>
          </p:nvGrpSpPr>
          <p:grpSpPr>
            <a:xfrm>
              <a:off x="1656360" y="1636200"/>
              <a:ext cx="2102760" cy="965160"/>
              <a:chOff x="1656360" y="1636200"/>
              <a:chExt cx="2102760" cy="965160"/>
            </a:xfrm>
          </p:grpSpPr>
          <p:sp>
            <p:nvSpPr>
              <p:cNvPr id="113" name="Oval 29"/>
              <p:cNvSpPr/>
              <p:nvPr/>
            </p:nvSpPr>
            <p:spPr>
              <a:xfrm rot="20184000">
                <a:off x="1666800" y="2417040"/>
                <a:ext cx="334440" cy="12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0"/>
              <p:cNvSpPr/>
              <p:nvPr/>
            </p:nvSpPr>
            <p:spPr>
              <a:xfrm flipV="1">
                <a:off x="1984320" y="1636200"/>
                <a:ext cx="1774800" cy="77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1"/>
            <p:cNvGrpSpPr/>
            <p:nvPr/>
          </p:nvGrpSpPr>
          <p:grpSpPr>
            <a:xfrm>
              <a:off x="3194640" y="1019160"/>
              <a:ext cx="3484080" cy="1626120"/>
              <a:chOff x="3194640" y="1019160"/>
              <a:chExt cx="3484080" cy="1626120"/>
            </a:xfrm>
          </p:grpSpPr>
          <p:grpSp>
            <p:nvGrpSpPr>
              <p:cNvPr id="116" name="Group 32"/>
              <p:cNvGrpSpPr/>
              <p:nvPr/>
            </p:nvGrpSpPr>
            <p:grpSpPr>
              <a:xfrm>
                <a:off x="4544280" y="1661760"/>
                <a:ext cx="2134440" cy="983520"/>
                <a:chOff x="4544280" y="1661760"/>
                <a:chExt cx="2134440" cy="983520"/>
              </a:xfrm>
            </p:grpSpPr>
            <p:sp>
              <p:nvSpPr>
                <p:cNvPr id="117" name="Oval 33"/>
                <p:cNvSpPr/>
                <p:nvPr/>
              </p:nvSpPr>
              <p:spPr>
                <a:xfrm rot="20184000">
                  <a:off x="4556880" y="2448000"/>
                  <a:ext cx="339120" cy="1346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4"/>
                <p:cNvSpPr/>
                <p:nvPr/>
              </p:nvSpPr>
              <p:spPr>
                <a:xfrm flipV="1">
                  <a:off x="4879080" y="1661760"/>
                  <a:ext cx="1799640" cy="785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Line 35"/>
              <p:cNvSpPr/>
              <p:nvPr/>
            </p:nvSpPr>
            <p:spPr>
              <a:xfrm>
                <a:off x="3727440" y="2064960"/>
                <a:ext cx="1173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36"/>
              <p:cNvSpPr/>
              <p:nvPr/>
            </p:nvSpPr>
            <p:spPr>
              <a:xfrm>
                <a:off x="3194640" y="1019160"/>
                <a:ext cx="225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 Antiqua"/>
                  </a:rPr>
                  <a:t>adsorb stain onto swa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37"/>
          <p:cNvGrpSpPr/>
          <p:nvPr/>
        </p:nvGrpSpPr>
        <p:grpSpPr>
          <a:xfrm>
            <a:off x="5888160" y="809640"/>
            <a:ext cx="2756160" cy="1673280"/>
            <a:chOff x="5888160" y="809640"/>
            <a:chExt cx="2756160" cy="1673280"/>
          </a:xfrm>
        </p:grpSpPr>
        <p:sp>
          <p:nvSpPr>
            <p:cNvPr id="122" name="Line 38"/>
            <p:cNvSpPr/>
            <p:nvPr/>
          </p:nvSpPr>
          <p:spPr>
            <a:xfrm>
              <a:off x="5888160" y="2208240"/>
              <a:ext cx="117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9"/>
            <p:cNvGrpSpPr/>
            <p:nvPr/>
          </p:nvGrpSpPr>
          <p:grpSpPr>
            <a:xfrm>
              <a:off x="7764480" y="1652040"/>
              <a:ext cx="811080" cy="830880"/>
              <a:chOff x="7764480" y="1652040"/>
              <a:chExt cx="811080" cy="830880"/>
            </a:xfrm>
          </p:grpSpPr>
          <p:sp>
            <p:nvSpPr>
              <p:cNvPr id="124" name="Oval 40"/>
              <p:cNvSpPr/>
              <p:nvPr/>
            </p:nvSpPr>
            <p:spPr>
              <a:xfrm>
                <a:off x="8486640" y="165564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41"/>
              <p:cNvSpPr/>
              <p:nvPr/>
            </p:nvSpPr>
            <p:spPr>
              <a:xfrm>
                <a:off x="7764480" y="194472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42"/>
              <p:cNvSpPr/>
              <p:nvPr/>
            </p:nvSpPr>
            <p:spPr>
              <a:xfrm rot="16200000">
                <a:off x="7799760" y="2219760"/>
                <a:ext cx="339840" cy="13500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43"/>
              <p:cNvSpPr/>
              <p:nvPr/>
            </p:nvSpPr>
            <p:spPr>
              <a:xfrm rot="19591800">
                <a:off x="8148240" y="1757160"/>
                <a:ext cx="420480" cy="128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Group 44"/>
              <p:cNvGrpSpPr/>
              <p:nvPr/>
            </p:nvGrpSpPr>
            <p:grpSpPr>
              <a:xfrm>
                <a:off x="7792920" y="1974960"/>
                <a:ext cx="356760" cy="110520"/>
                <a:chOff x="7792920" y="1974960"/>
                <a:chExt cx="356760" cy="110520"/>
              </a:xfrm>
            </p:grpSpPr>
            <p:sp>
              <p:nvSpPr>
                <p:cNvPr id="129" name="Oval 45"/>
                <p:cNvSpPr/>
                <p:nvPr/>
              </p:nvSpPr>
              <p:spPr>
                <a:xfrm>
                  <a:off x="7797960" y="2015280"/>
                  <a:ext cx="6984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46"/>
                <p:cNvSpPr/>
                <p:nvPr/>
              </p:nvSpPr>
              <p:spPr>
                <a:xfrm>
                  <a:off x="7868160" y="201528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47"/>
                <p:cNvSpPr/>
                <p:nvPr/>
              </p:nvSpPr>
              <p:spPr>
                <a:xfrm>
                  <a:off x="7938360" y="201528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48"/>
                <p:cNvSpPr/>
                <p:nvPr/>
              </p:nvSpPr>
              <p:spPr>
                <a:xfrm>
                  <a:off x="8008920" y="201528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Oval 49"/>
                <p:cNvSpPr/>
                <p:nvPr/>
              </p:nvSpPr>
              <p:spPr>
                <a:xfrm>
                  <a:off x="8079480" y="201528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50"/>
                <p:cNvSpPr/>
                <p:nvPr/>
              </p:nvSpPr>
              <p:spPr>
                <a:xfrm>
                  <a:off x="7792920" y="1974960"/>
                  <a:ext cx="352080" cy="7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Text Box 51"/>
            <p:cNvSpPr/>
            <p:nvPr/>
          </p:nvSpPr>
          <p:spPr>
            <a:xfrm>
              <a:off x="6764400" y="809640"/>
              <a:ext cx="1879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extract in provid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extraction buf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2"/>
          <p:cNvGrpSpPr/>
          <p:nvPr/>
        </p:nvGrpSpPr>
        <p:grpSpPr>
          <a:xfrm>
            <a:off x="4485960" y="3781440"/>
            <a:ext cx="3324240" cy="2657160"/>
            <a:chOff x="4485960" y="3781440"/>
            <a:chExt cx="3324240" cy="2657160"/>
          </a:xfrm>
        </p:grpSpPr>
        <p:grpSp>
          <p:nvGrpSpPr>
            <p:cNvPr id="137" name="Group 53"/>
            <p:cNvGrpSpPr/>
            <p:nvPr/>
          </p:nvGrpSpPr>
          <p:grpSpPr>
            <a:xfrm>
              <a:off x="6512040" y="4614840"/>
              <a:ext cx="419040" cy="538200"/>
              <a:chOff x="6512040" y="4614840"/>
              <a:chExt cx="419040" cy="538200"/>
            </a:xfrm>
          </p:grpSpPr>
          <p:sp>
            <p:nvSpPr>
              <p:cNvPr id="138" name="AutoShape 54"/>
              <p:cNvSpPr/>
              <p:nvPr/>
            </p:nvSpPr>
            <p:spPr>
              <a:xfrm>
                <a:off x="6512040" y="461484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55"/>
              <p:cNvGrpSpPr/>
              <p:nvPr/>
            </p:nvGrpSpPr>
            <p:grpSpPr>
              <a:xfrm>
                <a:off x="6592680" y="4883400"/>
                <a:ext cx="264960" cy="82080"/>
                <a:chOff x="6592680" y="4883400"/>
                <a:chExt cx="264960" cy="82080"/>
              </a:xfrm>
            </p:grpSpPr>
            <p:sp>
              <p:nvSpPr>
                <p:cNvPr id="140" name="Oval 56"/>
                <p:cNvSpPr/>
                <p:nvPr/>
              </p:nvSpPr>
              <p:spPr>
                <a:xfrm>
                  <a:off x="6596280" y="4913280"/>
                  <a:ext cx="5184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57"/>
                <p:cNvSpPr/>
                <p:nvPr/>
              </p:nvSpPr>
              <p:spPr>
                <a:xfrm>
                  <a:off x="6648480" y="491328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58"/>
                <p:cNvSpPr/>
                <p:nvPr/>
              </p:nvSpPr>
              <p:spPr>
                <a:xfrm>
                  <a:off x="6700680" y="491328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9"/>
                <p:cNvSpPr/>
                <p:nvPr/>
              </p:nvSpPr>
              <p:spPr>
                <a:xfrm>
                  <a:off x="6753240" y="491328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0"/>
                <p:cNvSpPr/>
                <p:nvPr/>
              </p:nvSpPr>
              <p:spPr>
                <a:xfrm>
                  <a:off x="6805440" y="491328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61"/>
                <p:cNvSpPr/>
                <p:nvPr/>
              </p:nvSpPr>
              <p:spPr>
                <a:xfrm>
                  <a:off x="6592680" y="4883400"/>
                  <a:ext cx="261720" cy="5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62"/>
            <p:cNvGrpSpPr/>
            <p:nvPr/>
          </p:nvGrpSpPr>
          <p:grpSpPr>
            <a:xfrm>
              <a:off x="4485960" y="4918320"/>
              <a:ext cx="1726200" cy="1520280"/>
              <a:chOff x="4485960" y="4918320"/>
              <a:chExt cx="1726200" cy="1520280"/>
            </a:xfrm>
          </p:grpSpPr>
          <p:grpSp>
            <p:nvGrpSpPr>
              <p:cNvPr id="147" name="Group 63"/>
              <p:cNvGrpSpPr/>
              <p:nvPr/>
            </p:nvGrpSpPr>
            <p:grpSpPr>
              <a:xfrm>
                <a:off x="5118120" y="4918320"/>
                <a:ext cx="495360" cy="946080"/>
                <a:chOff x="5118120" y="4918320"/>
                <a:chExt cx="495360" cy="946080"/>
              </a:xfrm>
            </p:grpSpPr>
            <p:sp>
              <p:nvSpPr>
                <p:cNvPr id="148" name="AutoShape 64"/>
                <p:cNvSpPr/>
                <p:nvPr/>
              </p:nvSpPr>
              <p:spPr>
                <a:xfrm>
                  <a:off x="5118120" y="5134320"/>
                  <a:ext cx="495360" cy="730080"/>
                </a:xfrm>
                <a:custGeom>
                  <a:avLst/>
                  <a:gdLst>
                    <a:gd name="textAreaLeft" fmla="*/ 24120 w 495360"/>
                    <a:gd name="textAreaRight" fmla="*/ 471240 w 495360"/>
                    <a:gd name="textAreaTop" fmla="*/ 24120 h 730080"/>
                    <a:gd name="textAreaBottom" fmla="*/ 705960 h 730080"/>
                  </a:gdLst>
                  <a:ahLst/>
                  <a:rect l="textAreaLeft" t="textAreaTop" r="textAreaRight" b="textAreaBottom"/>
                  <a:pathLst>
                    <a:path w="21600" h="31827">
                      <a:moveTo>
                        <a:pt x="3600" y="0"/>
                      </a:moveTo>
                      <a:arcTo wR="3600" hR="3600" stAng="16200000" swAng="-5400000"/>
                      <a:lnTo>
                        <a:pt x="0" y="28227"/>
                      </a:lnTo>
                      <a:arcTo wR="3600" hR="3600" stAng="10800000" swAng="-5400000"/>
                      <a:lnTo>
                        <a:pt x="18000" y="3182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65"/>
                <p:cNvSpPr/>
                <p:nvPr/>
              </p:nvSpPr>
              <p:spPr>
                <a:xfrm>
                  <a:off x="5118120" y="4918320"/>
                  <a:ext cx="482760" cy="196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66"/>
                <p:cNvSpPr/>
                <p:nvPr/>
              </p:nvSpPr>
              <p:spPr>
                <a:xfrm>
                  <a:off x="5175360" y="5356440"/>
                  <a:ext cx="38088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67"/>
              <p:cNvSpPr/>
              <p:nvPr/>
            </p:nvSpPr>
            <p:spPr>
              <a:xfrm>
                <a:off x="4485960" y="5857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 Sans MT"/>
                  </a:rPr>
                  <a:t>RSID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Gill Sans MT"/>
                  </a:rPr>
                  <a:t>T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 Antiqua"/>
                  </a:rPr>
                  <a:t>Running Buff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2" name="AutoShape 68"/>
            <p:cNvCxnSpPr/>
            <p:nvPr/>
          </p:nvCxnSpPr>
          <p:spPr>
            <a:xfrm flipV="1">
              <a:off x="5676480" y="4993920"/>
              <a:ext cx="686520" cy="419760"/>
            </a:xfrm>
            <a:prstGeom prst="curvedConnector5">
              <a:avLst>
                <a:gd name="adj1" fmla="val 50000"/>
                <a:gd name="adj2" fmla="val 49957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" name="AutoShape 69"/>
            <p:cNvCxnSpPr/>
            <p:nvPr/>
          </p:nvCxnSpPr>
          <p:spPr>
            <a:xfrm rot="10800000">
              <a:off x="7079400" y="5000040"/>
              <a:ext cx="731160" cy="388080"/>
            </a:xfrm>
            <a:prstGeom prst="curvedConnector5">
              <a:avLst>
                <a:gd name="adj1" fmla="val 50000"/>
                <a:gd name="adj2" fmla="val 49953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Text Box 70"/>
            <p:cNvSpPr/>
            <p:nvPr/>
          </p:nvSpPr>
          <p:spPr>
            <a:xfrm>
              <a:off x="5717880" y="3781440"/>
              <a:ext cx="194688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mix extract aliqu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with running buf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(100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l tot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71" descr=""/>
          <p:cNvPicPr/>
          <p:nvPr/>
        </p:nvPicPr>
        <p:blipFill>
          <a:blip r:embed="rId6"/>
          <a:stretch/>
        </p:blipFill>
        <p:spPr>
          <a:xfrm>
            <a:off x="142920" y="68400"/>
            <a:ext cx="8874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72"/>
          <p:cNvGrpSpPr/>
          <p:nvPr/>
        </p:nvGrpSpPr>
        <p:grpSpPr>
          <a:xfrm>
            <a:off x="726840" y="3633840"/>
            <a:ext cx="4883040" cy="2322000"/>
            <a:chOff x="726840" y="3633840"/>
            <a:chExt cx="4883040" cy="2322000"/>
          </a:xfrm>
        </p:grpSpPr>
        <p:grpSp>
          <p:nvGrpSpPr>
            <p:cNvPr id="157" name="Group 73"/>
            <p:cNvGrpSpPr/>
            <p:nvPr/>
          </p:nvGrpSpPr>
          <p:grpSpPr>
            <a:xfrm>
              <a:off x="824040" y="4187520"/>
              <a:ext cx="666720" cy="1768320"/>
              <a:chOff x="824040" y="4187520"/>
              <a:chExt cx="666720" cy="1768320"/>
            </a:xfrm>
          </p:grpSpPr>
          <p:sp>
            <p:nvSpPr>
              <p:cNvPr id="158" name="AutoShape 74"/>
              <p:cNvSpPr/>
              <p:nvPr/>
            </p:nvSpPr>
            <p:spPr>
              <a:xfrm>
                <a:off x="824040" y="4187520"/>
                <a:ext cx="666720" cy="1768320"/>
              </a:xfrm>
              <a:custGeom>
                <a:avLst/>
                <a:gdLst>
                  <a:gd name="textAreaLeft" fmla="*/ 32400 w 666720"/>
                  <a:gd name="textAreaRight" fmla="*/ 634320 w 666720"/>
                  <a:gd name="textAreaTop" fmla="*/ 32400 h 1768320"/>
                  <a:gd name="textAreaBottom" fmla="*/ 1735920 h 1768320"/>
                </a:gdLst>
                <a:ahLst/>
                <a:rect l="textAreaLeft" t="textAreaTop" r="textAreaRight" b="textAreaBottom"/>
                <a:pathLst>
                  <a:path w="21600" h="57270">
                    <a:moveTo>
                      <a:pt x="3600" y="0"/>
                    </a:moveTo>
                    <a:arcTo wR="3600" hR="3600" stAng="16200000" swAng="-5400000"/>
                    <a:lnTo>
                      <a:pt x="0" y="53670"/>
                    </a:lnTo>
                    <a:arcTo wR="3600" hR="3600" stAng="10800000" swAng="-5400000"/>
                    <a:lnTo>
                      <a:pt x="18000" y="572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75"/>
              <p:cNvSpPr/>
              <p:nvPr/>
            </p:nvSpPr>
            <p:spPr>
              <a:xfrm>
                <a:off x="1057320" y="5546160"/>
                <a:ext cx="198360" cy="196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76"/>
              <p:cNvSpPr/>
              <p:nvPr/>
            </p:nvSpPr>
            <p:spPr>
              <a:xfrm>
                <a:off x="1073160" y="4498200"/>
                <a:ext cx="168120" cy="80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7"/>
            <p:cNvGrpSpPr/>
            <p:nvPr/>
          </p:nvGrpSpPr>
          <p:grpSpPr>
            <a:xfrm>
              <a:off x="1735200" y="4186080"/>
              <a:ext cx="666720" cy="1767960"/>
              <a:chOff x="1735200" y="4186080"/>
              <a:chExt cx="666720" cy="1767960"/>
            </a:xfrm>
          </p:grpSpPr>
          <p:sp>
            <p:nvSpPr>
              <p:cNvPr id="162" name="AutoShape 78"/>
              <p:cNvSpPr/>
              <p:nvPr/>
            </p:nvSpPr>
            <p:spPr>
              <a:xfrm>
                <a:off x="1735200" y="4186080"/>
                <a:ext cx="666720" cy="1767960"/>
              </a:xfrm>
              <a:custGeom>
                <a:avLst/>
                <a:gdLst>
                  <a:gd name="textAreaLeft" fmla="*/ 32400 w 666720"/>
                  <a:gd name="textAreaRight" fmla="*/ 634320 w 666720"/>
                  <a:gd name="textAreaTop" fmla="*/ 32400 h 1767960"/>
                  <a:gd name="textAreaBottom" fmla="*/ 1735560 h 1767960"/>
                </a:gdLst>
                <a:ahLst/>
                <a:rect l="textAreaLeft" t="textAreaTop" r="textAreaRight" b="textAreaBottom"/>
                <a:pathLst>
                  <a:path w="21600" h="57258">
                    <a:moveTo>
                      <a:pt x="3600" y="0"/>
                    </a:moveTo>
                    <a:arcTo wR="3600" hR="3600" stAng="16200000" swAng="-5400000"/>
                    <a:lnTo>
                      <a:pt x="0" y="53658"/>
                    </a:lnTo>
                    <a:arcTo wR="3600" hR="3600" stAng="10800000" swAng="-5400000"/>
                    <a:lnTo>
                      <a:pt x="18000" y="572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79"/>
              <p:cNvSpPr/>
              <p:nvPr/>
            </p:nvSpPr>
            <p:spPr>
              <a:xfrm>
                <a:off x="1968480" y="5544360"/>
                <a:ext cx="198360" cy="196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0"/>
              <p:cNvSpPr/>
              <p:nvPr/>
            </p:nvSpPr>
            <p:spPr>
              <a:xfrm>
                <a:off x="1984320" y="4496760"/>
                <a:ext cx="168480" cy="802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5" name="AutoShape 81"/>
            <p:cNvCxnSpPr/>
            <p:nvPr/>
          </p:nvCxnSpPr>
          <p:spPr>
            <a:xfrm flipV="1" rot="10800000">
              <a:off x="2693160" y="4029480"/>
              <a:ext cx="2917080" cy="1729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Text Box 82"/>
            <p:cNvSpPr/>
            <p:nvPr/>
          </p:nvSpPr>
          <p:spPr>
            <a:xfrm>
              <a:off x="726840" y="3633840"/>
              <a:ext cx="179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add to RSID-Sal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6730920" y="76320"/>
            <a:ext cx="23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ill Sans MT"/>
              </a:rPr>
              <a:t>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874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433440" y="5316480"/>
            <a:ext cx="5890680" cy="552240"/>
            <a:chOff x="433440" y="5316480"/>
            <a:chExt cx="5890680" cy="552240"/>
          </a:xfrm>
        </p:grpSpPr>
        <p:sp>
          <p:nvSpPr>
            <p:cNvPr id="171" name="Text Box 6"/>
            <p:cNvSpPr/>
            <p:nvPr/>
          </p:nvSpPr>
          <p:spPr>
            <a:xfrm>
              <a:off x="2440080" y="550044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50 n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"/>
            <p:cNvSpPr/>
            <p:nvPr/>
          </p:nvSpPr>
          <p:spPr>
            <a:xfrm>
              <a:off x="3326400" y="550044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250 n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"/>
            <p:cNvSpPr/>
            <p:nvPr/>
          </p:nvSpPr>
          <p:spPr>
            <a:xfrm>
              <a:off x="4354920" y="5497560"/>
              <a:ext cx="75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0.5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9"/>
            <p:cNvSpPr/>
            <p:nvPr/>
          </p:nvSpPr>
          <p:spPr>
            <a:xfrm>
              <a:off x="5331240" y="5497560"/>
              <a:ext cx="75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1.0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>
              <a:off x="460080" y="5316480"/>
              <a:ext cx="58640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1"/>
            <p:cNvSpPr/>
            <p:nvPr/>
          </p:nvSpPr>
          <p:spPr>
            <a:xfrm>
              <a:off x="433440" y="54943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Sal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1609560" y="54975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0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3"/>
          <p:cNvGrpSpPr/>
          <p:nvPr/>
        </p:nvGrpSpPr>
        <p:grpSpPr>
          <a:xfrm>
            <a:off x="6730920" y="773280"/>
            <a:ext cx="2255400" cy="4555800"/>
            <a:chOff x="6730920" y="773280"/>
            <a:chExt cx="2255400" cy="4555800"/>
          </a:xfrm>
        </p:grpSpPr>
        <p:pic>
          <p:nvPicPr>
            <p:cNvPr id="179" name="Picture 14" descr="Saliva_demo 001"/>
            <p:cNvPicPr/>
            <p:nvPr/>
          </p:nvPicPr>
          <p:blipFill>
            <a:blip r:embed="rId2"/>
            <a:srcRect l="71975" t="13773" r="3558" b="29850"/>
            <a:stretch/>
          </p:blipFill>
          <p:spPr>
            <a:xfrm>
              <a:off x="6730920" y="1441440"/>
              <a:ext cx="1933560" cy="33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5"/>
            <p:cNvSpPr/>
            <p:nvPr/>
          </p:nvSpPr>
          <p:spPr>
            <a:xfrm>
              <a:off x="6792120" y="495612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B/Se/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6"/>
            <p:cNvSpPr/>
            <p:nvPr/>
          </p:nvSpPr>
          <p:spPr>
            <a:xfrm>
              <a:off x="6906600" y="773280"/>
              <a:ext cx="163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Body Flu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7"/>
            <p:cNvSpPr/>
            <p:nvPr/>
          </p:nvSpPr>
          <p:spPr>
            <a:xfrm>
              <a:off x="7668720" y="4960800"/>
              <a:ext cx="13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B/Se/Sa/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8"/>
          <p:cNvGrpSpPr/>
          <p:nvPr/>
        </p:nvGrpSpPr>
        <p:grpSpPr>
          <a:xfrm>
            <a:off x="225720" y="747720"/>
            <a:ext cx="6075000" cy="4440240"/>
            <a:chOff x="225720" y="747720"/>
            <a:chExt cx="6075000" cy="4440240"/>
          </a:xfrm>
        </p:grpSpPr>
        <p:grpSp>
          <p:nvGrpSpPr>
            <p:cNvPr id="184" name="Group 19"/>
            <p:cNvGrpSpPr/>
            <p:nvPr/>
          </p:nvGrpSpPr>
          <p:grpSpPr>
            <a:xfrm>
              <a:off x="291240" y="747720"/>
              <a:ext cx="6009480" cy="4440240"/>
              <a:chOff x="291240" y="747720"/>
              <a:chExt cx="6009480" cy="4440240"/>
            </a:xfrm>
          </p:grpSpPr>
          <p:grpSp>
            <p:nvGrpSpPr>
              <p:cNvPr id="185" name="Group 20"/>
              <p:cNvGrpSpPr/>
              <p:nvPr/>
            </p:nvGrpSpPr>
            <p:grpSpPr>
              <a:xfrm>
                <a:off x="291240" y="1409760"/>
                <a:ext cx="6009480" cy="3778200"/>
                <a:chOff x="291240" y="1409760"/>
                <a:chExt cx="6009480" cy="3778200"/>
              </a:xfrm>
            </p:grpSpPr>
            <p:pic>
              <p:nvPicPr>
                <p:cNvPr id="186" name="Picture 21" descr="Saliva_demo 001"/>
                <p:cNvPicPr/>
                <p:nvPr/>
              </p:nvPicPr>
              <p:blipFill>
                <a:blip r:embed="rId3"/>
                <a:srcRect l="4461" t="14709" r="33816" b="27413"/>
                <a:stretch/>
              </p:blipFill>
              <p:spPr>
                <a:xfrm>
                  <a:off x="1424160" y="1409760"/>
                  <a:ext cx="487656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7" name="Group 22"/>
                <p:cNvGrpSpPr/>
                <p:nvPr/>
              </p:nvGrpSpPr>
              <p:grpSpPr>
                <a:xfrm>
                  <a:off x="291240" y="4792680"/>
                  <a:ext cx="5857560" cy="395280"/>
                  <a:chOff x="291240" y="4792680"/>
                  <a:chExt cx="5857560" cy="395280"/>
                </a:xfrm>
              </p:grpSpPr>
              <p:sp>
                <p:nvSpPr>
                  <p:cNvPr id="188" name="Text Box 23"/>
                  <p:cNvSpPr/>
                  <p:nvPr/>
                </p:nvSpPr>
                <p:spPr>
                  <a:xfrm>
                    <a:off x="1616760" y="4792680"/>
                    <a:ext cx="572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Book Antiqua"/>
                      </a:rPr>
                      <a:t>0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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Book Antiqua"/>
                      </a:rPr>
                      <a:t>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Text Box 24"/>
                  <p:cNvSpPr/>
                  <p:nvPr/>
                </p:nvSpPr>
                <p:spPr>
                  <a:xfrm>
                    <a:off x="2670840" y="4792680"/>
                    <a:ext cx="572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Book Antiqua"/>
                      </a:rPr>
                      <a:t>1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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Book Antiqua"/>
                      </a:rPr>
                      <a:t>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Text Box 25"/>
                  <p:cNvSpPr/>
                  <p:nvPr/>
                </p:nvSpPr>
                <p:spPr>
                  <a:xfrm>
                    <a:off x="3545280" y="4792680"/>
                    <a:ext cx="572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Book Antiqua"/>
                      </a:rPr>
                      <a:t>5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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Book Antiqua"/>
                      </a:rPr>
                      <a:t>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Text Box 26"/>
                  <p:cNvSpPr/>
                  <p:nvPr/>
                </p:nvSpPr>
                <p:spPr>
                  <a:xfrm>
                    <a:off x="4469040" y="4792680"/>
                    <a:ext cx="703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Book Antiqua"/>
                      </a:rPr>
                      <a:t>10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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Book Antiqua"/>
                      </a:rPr>
                      <a:t>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Text Box 27"/>
                  <p:cNvSpPr/>
                  <p:nvPr/>
                </p:nvSpPr>
                <p:spPr>
                  <a:xfrm>
                    <a:off x="5445360" y="4792680"/>
                    <a:ext cx="703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Book Antiqua"/>
                      </a:rPr>
                      <a:t>20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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Book Antiqua"/>
                      </a:rPr>
                      <a:t>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Text Box 28"/>
                  <p:cNvSpPr/>
                  <p:nvPr/>
                </p:nvSpPr>
                <p:spPr>
                  <a:xfrm>
                    <a:off x="291240" y="4819680"/>
                    <a:ext cx="999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Book Antiqua"/>
                      </a:rPr>
                      <a:t>Extrac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4" name="Text Box 29"/>
              <p:cNvSpPr/>
              <p:nvPr/>
            </p:nvSpPr>
            <p:spPr>
              <a:xfrm>
                <a:off x="3343320" y="747720"/>
                <a:ext cx="115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Saliva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0"/>
            <p:cNvSpPr/>
            <p:nvPr/>
          </p:nvSpPr>
          <p:spPr>
            <a:xfrm>
              <a:off x="225720" y="2612880"/>
              <a:ext cx="108900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50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l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sal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extrac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in 1 m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730920" y="76320"/>
            <a:ext cx="23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ill Sans MT"/>
              </a:rPr>
              <a:t>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87400" cy="1571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112680" y="976320"/>
            <a:ext cx="8918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6730920" y="-36360"/>
            <a:ext cx="23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ill Sans MT"/>
              </a:rPr>
              <a:t>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2600" y="496800"/>
            <a:ext cx="9140760" cy="1015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35720" y="5226120"/>
            <a:ext cx="74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fficient: Assay procedure integrated in DNA-ST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9800" y="3025800"/>
            <a:ext cx="62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ast: Test results in 10 minutest post ex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-57240" y="3657600"/>
            <a:ext cx="92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ensitive:  Detects as little as 50 nl of saliva – stated detection limit: 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-74880" y="1371600"/>
            <a:ext cx="923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observed cross reaction with blood, urine, sweat, semen, domestic anima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xotic spec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ody fluid mix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inor, but consistent signals seen with breast milk and fecal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-76680" y="836640"/>
            <a:ext cx="94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irs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specific, non-enzymatic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est for salivary amy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67040" y="4289400"/>
            <a:ext cx="870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o High Dose Hook effect observed: little or no dilution requir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ess possibility of false neg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152280" y="447840"/>
            <a:ext cx="8700480" cy="529920"/>
            <a:chOff x="152280" y="447840"/>
            <a:chExt cx="8700480" cy="529920"/>
          </a:xfrm>
        </p:grpSpPr>
        <p:sp>
          <p:nvSpPr>
            <p:cNvPr id="209" name="Text Box 3"/>
            <p:cNvSpPr/>
            <p:nvPr/>
          </p:nvSpPr>
          <p:spPr>
            <a:xfrm>
              <a:off x="152280" y="457200"/>
              <a:ext cx="21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Gill Sans MT"/>
                </a:rPr>
                <a:t>Ques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"/>
            <p:cNvSpPr/>
            <p:nvPr/>
          </p:nvSpPr>
          <p:spPr>
            <a:xfrm>
              <a:off x="2813400" y="447840"/>
              <a:ext cx="20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Gill Sans MT"/>
                </a:rPr>
                <a:t>Com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"/>
            <p:cNvSpPr/>
            <p:nvPr/>
          </p:nvSpPr>
          <p:spPr>
            <a:xfrm>
              <a:off x="5361120" y="447840"/>
              <a:ext cx="165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Gill Sans MT"/>
                </a:rPr>
                <a:t>Samp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7533720" y="447840"/>
              <a:ext cx="13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</a:rPr>
                <a:t>Grip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7"/>
          <p:cNvSpPr/>
          <p:nvPr/>
        </p:nvSpPr>
        <p:spPr>
          <a:xfrm>
            <a:off x="2621880" y="1676520"/>
            <a:ext cx="3795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Karl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el 708.234.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ax 708.978.51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karl@IFI-te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ww.IFI-te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6:34:37Z</dcterms:created>
  <dc:creator>Karl Reich</dc:creator>
  <dc:description/>
  <dc:language>en-US</dc:language>
  <cp:lastModifiedBy>Leslie Valenti</cp:lastModifiedBy>
  <dcterms:modified xsi:type="dcterms:W3CDTF">2012-09-05T16:28:21Z</dcterms:modified>
  <cp:revision>4</cp:revision>
  <dc:subject/>
  <dc:title>Slide 1</dc:title>
</cp:coreProperties>
</file>