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7"/>
          <p:cNvSpPr/>
          <p:nvPr/>
        </p:nvSpPr>
        <p:spPr>
          <a:xfrm flipH="1">
            <a:off x="7162560" y="6630840"/>
            <a:ext cx="609480" cy="0"/>
          </a:xfrm>
          <a:prstGeom prst="line">
            <a:avLst/>
          </a:prstGeom>
          <a:ln w="38160">
            <a:solidFill>
              <a:srgbClr val="336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 flipH="1">
            <a:off x="1863360" y="6707160"/>
            <a:ext cx="583236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2"/>
          <a:srcRect l="0" t="-2953" r="24152" b="0"/>
          <a:stretch/>
        </p:blipFill>
        <p:spPr>
          <a:xfrm>
            <a:off x="7624800" y="6018120"/>
            <a:ext cx="1366920" cy="7653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Smaller logo"/>
          <p:cNvPicPr/>
          <p:nvPr/>
        </p:nvPicPr>
        <p:blipFill>
          <a:blip r:embed="rId3"/>
          <a:stretch/>
        </p:blipFill>
        <p:spPr>
          <a:xfrm>
            <a:off x="109440" y="6059520"/>
            <a:ext cx="1965600" cy="703080"/>
          </a:xfrm>
          <a:prstGeom prst="rect">
            <a:avLst/>
          </a:prstGeom>
          <a:ln w="0">
            <a:noFill/>
          </a:ln>
        </p:spPr>
      </p:pic>
      <p:grpSp>
        <p:nvGrpSpPr>
          <p:cNvPr id="4" name="Group 11"/>
          <p:cNvGrpSpPr/>
          <p:nvPr/>
        </p:nvGrpSpPr>
        <p:grpSpPr>
          <a:xfrm>
            <a:off x="6730920" y="6012000"/>
            <a:ext cx="736560" cy="763560"/>
            <a:chOff x="6730920" y="6012000"/>
            <a:chExt cx="736560" cy="763560"/>
          </a:xfrm>
        </p:grpSpPr>
        <p:grpSp>
          <p:nvGrpSpPr>
            <p:cNvPr id="5" name="Group 12"/>
            <p:cNvGrpSpPr/>
            <p:nvPr/>
          </p:nvGrpSpPr>
          <p:grpSpPr>
            <a:xfrm>
              <a:off x="6748200" y="6012000"/>
              <a:ext cx="563400" cy="763560"/>
              <a:chOff x="6748200" y="6012000"/>
              <a:chExt cx="563400" cy="763560"/>
            </a:xfrm>
          </p:grpSpPr>
          <p:grpSp>
            <p:nvGrpSpPr>
              <p:cNvPr id="6" name="Group 13"/>
              <p:cNvGrpSpPr/>
              <p:nvPr/>
            </p:nvGrpSpPr>
            <p:grpSpPr>
              <a:xfrm>
                <a:off x="6748200" y="6012000"/>
                <a:ext cx="563400" cy="763560"/>
                <a:chOff x="6748200" y="6012000"/>
                <a:chExt cx="563400" cy="763560"/>
              </a:xfrm>
            </p:grpSpPr>
            <p:grpSp>
              <p:nvGrpSpPr>
                <p:cNvPr id="7" name="Group 14"/>
                <p:cNvGrpSpPr/>
                <p:nvPr/>
              </p:nvGrpSpPr>
              <p:grpSpPr>
                <a:xfrm>
                  <a:off x="6748200" y="6012000"/>
                  <a:ext cx="563400" cy="763560"/>
                  <a:chOff x="6748200" y="6012000"/>
                  <a:chExt cx="563400" cy="763560"/>
                </a:xfrm>
              </p:grpSpPr>
              <p:sp>
                <p:nvSpPr>
                  <p:cNvPr id="8" name="AutoShape 15"/>
                  <p:cNvSpPr/>
                  <p:nvPr/>
                </p:nvSpPr>
                <p:spPr>
                  <a:xfrm>
                    <a:off x="6821280" y="6032520"/>
                    <a:ext cx="419040" cy="743040"/>
                  </a:xfrm>
                  <a:custGeom>
                    <a:avLst/>
                    <a:gdLst>
                      <a:gd name="textAreaLeft" fmla="*/ 20160 w 419040"/>
                      <a:gd name="textAreaRight" fmla="*/ 398880 w 419040"/>
                      <a:gd name="textAreaTop" fmla="*/ 20160 h 743040"/>
                      <a:gd name="textAreaBottom" fmla="*/ 722880 h 743040"/>
                    </a:gdLst>
                    <a:ahLst/>
                    <a:rect l="textAreaLeft" t="textAreaTop" r="textAreaRight" b="textAreaBottom"/>
                    <a:pathLst>
                      <a:path w="21600" h="3828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34687"/>
                        </a:lnTo>
                        <a:arcTo wR="3600" hR="3600" stAng="10800000" swAng="-5400000"/>
                        <a:lnTo>
                          <a:pt x="18000" y="3828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Text Box 16"/>
                  <p:cNvSpPr/>
                  <p:nvPr/>
                </p:nvSpPr>
                <p:spPr>
                  <a:xfrm>
                    <a:off x="6748200" y="6012000"/>
                    <a:ext cx="5634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ffffff"/>
                        </a:solidFill>
                        <a:latin typeface="Gill Sans MT"/>
                      </a:rPr>
                      <a:t>SPERM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" name="Picture 1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60880" y="6656400"/>
                  <a:ext cx="339840" cy="103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" name="Group 18"/>
              <p:cNvGrpSpPr/>
              <p:nvPr/>
            </p:nvGrpSpPr>
            <p:grpSpPr>
              <a:xfrm>
                <a:off x="7003800" y="6318000"/>
                <a:ext cx="196920" cy="196920"/>
                <a:chOff x="7003800" y="6318000"/>
                <a:chExt cx="196920" cy="196920"/>
              </a:xfrm>
            </p:grpSpPr>
            <p:sp>
              <p:nvSpPr>
                <p:cNvPr id="12" name="Oval 19"/>
                <p:cNvSpPr/>
                <p:nvPr/>
              </p:nvSpPr>
              <p:spPr>
                <a:xfrm rot="16200000">
                  <a:off x="7003800" y="6318000"/>
                  <a:ext cx="196920" cy="1969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20"/>
                <p:cNvGrpSpPr/>
                <p:nvPr/>
              </p:nvGrpSpPr>
              <p:grpSpPr>
                <a:xfrm>
                  <a:off x="7016760" y="6356880"/>
                  <a:ext cx="153720" cy="117000"/>
                  <a:chOff x="7016760" y="6356880"/>
                  <a:chExt cx="153720" cy="117000"/>
                </a:xfrm>
              </p:grpSpPr>
              <p:sp>
                <p:nvSpPr>
                  <p:cNvPr id="14" name="Oval 21"/>
                  <p:cNvSpPr/>
                  <p:nvPr/>
                </p:nvSpPr>
                <p:spPr>
                  <a:xfrm rot="16200000">
                    <a:off x="7068240" y="6454080"/>
                    <a:ext cx="23760" cy="1584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Oval 22"/>
                  <p:cNvSpPr/>
                  <p:nvPr/>
                </p:nvSpPr>
                <p:spPr>
                  <a:xfrm rot="16200000">
                    <a:off x="7080840" y="6374880"/>
                    <a:ext cx="23760" cy="1584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Oval 23"/>
                  <p:cNvSpPr/>
                  <p:nvPr/>
                </p:nvSpPr>
                <p:spPr>
                  <a:xfrm rot="16200000">
                    <a:off x="7150320" y="6442560"/>
                    <a:ext cx="24120" cy="15840"/>
                  </a:xfrm>
                  <a:prstGeom prst="ellipse">
                    <a:avLst/>
                  </a:prstGeom>
                  <a:solidFill>
                    <a:srgbClr val="3366ff"/>
                  </a:solidFill>
                  <a:ln w="1908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" name="Group 24"/>
                  <p:cNvGrpSpPr/>
                  <p:nvPr/>
                </p:nvGrpSpPr>
                <p:grpSpPr>
                  <a:xfrm>
                    <a:off x="7016760" y="6356880"/>
                    <a:ext cx="150840" cy="111960"/>
                    <a:chOff x="7016760" y="6356880"/>
                    <a:chExt cx="150840" cy="111960"/>
                  </a:xfrm>
                </p:grpSpPr>
                <p:sp>
                  <p:nvSpPr>
                    <p:cNvPr id="18" name="Oval 25"/>
                    <p:cNvSpPr/>
                    <p:nvPr/>
                  </p:nvSpPr>
                  <p:spPr>
                    <a:xfrm rot="18301200">
                      <a:off x="7099200" y="6455880"/>
                      <a:ext cx="12600" cy="972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Oval 26"/>
                    <p:cNvSpPr/>
                    <p:nvPr/>
                  </p:nvSpPr>
                  <p:spPr>
                    <a:xfrm rot="18301200">
                      <a:off x="7056360" y="6419160"/>
                      <a:ext cx="12600" cy="972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" name="Oval 27"/>
                    <p:cNvSpPr/>
                    <p:nvPr/>
                  </p:nvSpPr>
                  <p:spPr>
                    <a:xfrm rot="18301200">
                      <a:off x="7017840" y="6416640"/>
                      <a:ext cx="12960" cy="972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" name="Oval 28"/>
                    <p:cNvSpPr/>
                    <p:nvPr/>
                  </p:nvSpPr>
                  <p:spPr>
                    <a:xfrm rot="15081600">
                      <a:off x="7154640" y="6359400"/>
                      <a:ext cx="12600" cy="9360"/>
                    </a:xfrm>
                    <a:prstGeom prst="ellipse">
                      <a:avLst/>
                    </a:prstGeom>
                    <a:solidFill>
                      <a:srgbClr val="3366ff"/>
                    </a:solidFill>
                    <a:ln w="1908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" name="Group 29"/>
              <p:cNvGrpSpPr/>
              <p:nvPr/>
            </p:nvGrpSpPr>
            <p:grpSpPr>
              <a:xfrm>
                <a:off x="6860880" y="6202080"/>
                <a:ext cx="196920" cy="196920"/>
                <a:chOff x="6860880" y="6202080"/>
                <a:chExt cx="196920" cy="196920"/>
              </a:xfrm>
            </p:grpSpPr>
            <p:sp>
              <p:nvSpPr>
                <p:cNvPr id="23" name="Oval 30"/>
                <p:cNvSpPr/>
                <p:nvPr/>
              </p:nvSpPr>
              <p:spPr>
                <a:xfrm rot="16200000">
                  <a:off x="6860880" y="6202080"/>
                  <a:ext cx="196920" cy="19692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Oval 31"/>
                <p:cNvSpPr/>
                <p:nvPr/>
              </p:nvSpPr>
              <p:spPr>
                <a:xfrm rot="18301200">
                  <a:off x="6959880" y="6352200"/>
                  <a:ext cx="14400" cy="972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Oval 32"/>
                <p:cNvSpPr/>
                <p:nvPr/>
              </p:nvSpPr>
              <p:spPr>
                <a:xfrm rot="18301200">
                  <a:off x="6918840" y="6317640"/>
                  <a:ext cx="14400" cy="936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Oval 33"/>
                <p:cNvSpPr/>
                <p:nvPr/>
              </p:nvSpPr>
              <p:spPr>
                <a:xfrm rot="18301200">
                  <a:off x="6879960" y="6314760"/>
                  <a:ext cx="14400" cy="792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Oval 34"/>
                <p:cNvSpPr/>
                <p:nvPr/>
              </p:nvSpPr>
              <p:spPr>
                <a:xfrm rot="15081600">
                  <a:off x="7014960" y="6257880"/>
                  <a:ext cx="14040" cy="7920"/>
                </a:xfrm>
                <a:prstGeom prst="ellipse">
                  <a:avLst/>
                </a:prstGeom>
                <a:solidFill>
                  <a:srgbClr val="00cc00"/>
                </a:solidFill>
                <a:ln w="2232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040" bIns="-41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" name="Group 35"/>
            <p:cNvGrpSpPr/>
            <p:nvPr/>
          </p:nvGrpSpPr>
          <p:grpSpPr>
            <a:xfrm>
              <a:off x="6730920" y="6494400"/>
              <a:ext cx="736560" cy="200520"/>
              <a:chOff x="6730920" y="6494400"/>
              <a:chExt cx="736560" cy="200520"/>
            </a:xfrm>
          </p:grpSpPr>
          <p:sp>
            <p:nvSpPr>
              <p:cNvPr id="29" name="Text Box 36"/>
              <p:cNvSpPr/>
              <p:nvPr/>
            </p:nvSpPr>
            <p:spPr>
              <a:xfrm>
                <a:off x="6730920" y="6494400"/>
                <a:ext cx="380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cc00"/>
                    </a:solidFill>
                    <a:latin typeface="Gill Sans MT"/>
                  </a:rPr>
                  <a:t>HY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7"/>
              <p:cNvGrpSpPr/>
              <p:nvPr/>
            </p:nvGrpSpPr>
            <p:grpSpPr>
              <a:xfrm>
                <a:off x="6886440" y="6494400"/>
                <a:ext cx="581040" cy="200520"/>
                <a:chOff x="6886440" y="6494400"/>
                <a:chExt cx="581040" cy="200520"/>
              </a:xfrm>
            </p:grpSpPr>
            <p:sp>
              <p:nvSpPr>
                <p:cNvPr id="31" name="Text Box 38"/>
                <p:cNvSpPr/>
                <p:nvPr/>
              </p:nvSpPr>
              <p:spPr>
                <a:xfrm>
                  <a:off x="6886440" y="6494400"/>
                  <a:ext cx="58104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cc00"/>
                      </a:solidFill>
                      <a:latin typeface="Gill Sans MT"/>
                    </a:rPr>
                    <a:t>LIT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Line 39"/>
                <p:cNvSpPr/>
                <p:nvPr/>
              </p:nvSpPr>
              <p:spPr>
                <a:xfrm>
                  <a:off x="6948360" y="6599160"/>
                  <a:ext cx="27000" cy="0"/>
                </a:xfrm>
                <a:prstGeom prst="line">
                  <a:avLst/>
                </a:prstGeom>
                <a:ln w="1260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251160" y="5500800"/>
            <a:ext cx="279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arl Reich,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dependent Foren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ombard 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30320" y="26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86400" y="1844640"/>
            <a:ext cx="733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 New and Better Forensic Tes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Human S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152280" y="447840"/>
            <a:ext cx="8700480" cy="529920"/>
            <a:chOff x="152280" y="447840"/>
            <a:chExt cx="8700480" cy="529920"/>
          </a:xfrm>
        </p:grpSpPr>
        <p:sp>
          <p:nvSpPr>
            <p:cNvPr id="279" name="Text Box 3"/>
            <p:cNvSpPr/>
            <p:nvPr/>
          </p:nvSpPr>
          <p:spPr>
            <a:xfrm>
              <a:off x="152280" y="457200"/>
              <a:ext cx="216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Gill Sans MT"/>
                </a:rPr>
                <a:t>Ques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"/>
            <p:cNvSpPr/>
            <p:nvPr/>
          </p:nvSpPr>
          <p:spPr>
            <a:xfrm>
              <a:off x="2813400" y="447840"/>
              <a:ext cx="209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Gill Sans MT"/>
                </a:rPr>
                <a:t>Com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"/>
            <p:cNvSpPr/>
            <p:nvPr/>
          </p:nvSpPr>
          <p:spPr>
            <a:xfrm>
              <a:off x="5361120" y="447840"/>
              <a:ext cx="165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Gill Sans MT"/>
                </a:rPr>
                <a:t>Samp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7533720" y="447840"/>
              <a:ext cx="13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ill Sans MT"/>
                </a:rPr>
                <a:t>Grip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7"/>
          <p:cNvSpPr/>
          <p:nvPr/>
        </p:nvSpPr>
        <p:spPr>
          <a:xfrm>
            <a:off x="2621880" y="1676520"/>
            <a:ext cx="3795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Karl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Tel 708.234.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ax 708.978.5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karl@IFI-te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www.IFI-te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190760" y="23976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troduction to Independent Foren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219320" y="3762360"/>
            <a:ext cx="6865920" cy="2294640"/>
            <a:chOff x="1219320" y="3762360"/>
            <a:chExt cx="6865920" cy="2294640"/>
          </a:xfrm>
        </p:grpSpPr>
        <p:sp>
          <p:nvSpPr>
            <p:cNvPr id="74" name="Text Box 4"/>
            <p:cNvSpPr/>
            <p:nvPr/>
          </p:nvSpPr>
          <p:spPr>
            <a:xfrm>
              <a:off x="1219320" y="4240080"/>
              <a:ext cx="686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5,600 sq ft of combined laboratory and office sp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1749600" y="4743360"/>
              <a:ext cx="5805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Suburban Chicago – 18 minutes from O’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      – </a:t>
              </a: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30 minutes from The Loo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6"/>
            <p:cNvSpPr/>
            <p:nvPr/>
          </p:nvSpPr>
          <p:spPr>
            <a:xfrm>
              <a:off x="1495440" y="3762360"/>
              <a:ext cx="631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Laboratory personnel: MS and Ph.D. scienti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7"/>
          <p:cNvSpPr/>
          <p:nvPr/>
        </p:nvSpPr>
        <p:spPr>
          <a:xfrm>
            <a:off x="0" y="609480"/>
            <a:ext cx="9140760" cy="101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8"/>
          <p:cNvGrpSpPr/>
          <p:nvPr/>
        </p:nvGrpSpPr>
        <p:grpSpPr>
          <a:xfrm>
            <a:off x="5184720" y="1162080"/>
            <a:ext cx="3492360" cy="1583640"/>
            <a:chOff x="5184720" y="1162080"/>
            <a:chExt cx="3492360" cy="1583640"/>
          </a:xfrm>
        </p:grpSpPr>
        <p:sp>
          <p:nvSpPr>
            <p:cNvPr id="79" name="Text Box 9"/>
            <p:cNvSpPr/>
            <p:nvPr/>
          </p:nvSpPr>
          <p:spPr>
            <a:xfrm>
              <a:off x="5730480" y="228600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Contract R &amp;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5184720" y="1162080"/>
              <a:ext cx="349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Products for Forens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Laborator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0" y="1162080"/>
            <a:ext cx="4724280" cy="1429920"/>
            <a:chOff x="0" y="1162080"/>
            <a:chExt cx="4724280" cy="1429920"/>
          </a:xfrm>
        </p:grpSpPr>
        <p:sp>
          <p:nvSpPr>
            <p:cNvPr id="82" name="Text Box 12"/>
            <p:cNvSpPr/>
            <p:nvPr/>
          </p:nvSpPr>
          <p:spPr>
            <a:xfrm>
              <a:off x="404640" y="1162080"/>
              <a:ext cx="39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Forensic DNA laborat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0" y="1600200"/>
              <a:ext cx="47242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Book Antiqua"/>
                </a:rPr>
                <a:t>Accreditations: </a:t>
              </a: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ISO 17025, NY-DOH, AABB, C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324720" y="1949400"/>
              <a:ext cx="40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Specialize in LCN / Trace Protoc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Profiles from &lt;  0.1 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37920" y="120600"/>
            <a:ext cx="62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SI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ill Sans MT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–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pi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a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D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108360" y="1227240"/>
            <a:ext cx="4806360" cy="825480"/>
            <a:chOff x="108360" y="1227240"/>
            <a:chExt cx="4806360" cy="825480"/>
          </a:xfrm>
        </p:grpSpPr>
        <p:sp>
          <p:nvSpPr>
            <p:cNvPr id="87" name="Text Box 4"/>
            <p:cNvSpPr/>
            <p:nvPr/>
          </p:nvSpPr>
          <p:spPr>
            <a:xfrm>
              <a:off x="168120" y="1227240"/>
              <a:ext cx="474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Developed under R &amp; D contr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"/>
            <p:cNvSpPr/>
            <p:nvPr/>
          </p:nvSpPr>
          <p:spPr>
            <a:xfrm>
              <a:off x="108360" y="1652400"/>
              <a:ext cx="44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Requirement:  Confirmatory tests fo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6"/>
          <p:cNvSpPr/>
          <p:nvPr/>
        </p:nvSpPr>
        <p:spPr>
          <a:xfrm>
            <a:off x="163080" y="4486320"/>
            <a:ext cx="479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urrent Tests: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resum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ross-reaction – species and body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non-specific – other conclusion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widely used – SOPs, report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453000" y="2454120"/>
            <a:ext cx="203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ennifer Ol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iz Graff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rett Schwe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arl Rei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thers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392800" y="189540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ench Script MT"/>
              </a:rPr>
              <a:t>Brought to you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1368360" y="2227320"/>
            <a:ext cx="1714680" cy="2215440"/>
            <a:chOff x="1368360" y="2227320"/>
            <a:chExt cx="1714680" cy="2215440"/>
          </a:xfrm>
        </p:grpSpPr>
        <p:grpSp>
          <p:nvGrpSpPr>
            <p:cNvPr id="93" name="Group 10"/>
            <p:cNvGrpSpPr/>
            <p:nvPr/>
          </p:nvGrpSpPr>
          <p:grpSpPr>
            <a:xfrm>
              <a:off x="1368360" y="2227320"/>
              <a:ext cx="1705320" cy="459720"/>
              <a:chOff x="1368360" y="2227320"/>
              <a:chExt cx="1705320" cy="459720"/>
            </a:xfrm>
          </p:grpSpPr>
          <p:sp>
            <p:nvSpPr>
              <p:cNvPr id="94" name="Oval 11"/>
              <p:cNvSpPr/>
              <p:nvPr/>
            </p:nvSpPr>
            <p:spPr>
              <a:xfrm>
                <a:off x="1368360" y="2394000"/>
                <a:ext cx="173160" cy="17280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12"/>
              <p:cNvSpPr/>
              <p:nvPr/>
            </p:nvSpPr>
            <p:spPr>
              <a:xfrm>
                <a:off x="1815480" y="2227320"/>
                <a:ext cx="125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ill Sans MT"/>
                  </a:rPr>
                  <a:t>SALIV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13"/>
            <p:cNvGrpSpPr/>
            <p:nvPr/>
          </p:nvGrpSpPr>
          <p:grpSpPr>
            <a:xfrm>
              <a:off x="1368360" y="2830680"/>
              <a:ext cx="1653840" cy="459720"/>
              <a:chOff x="1368360" y="2830680"/>
              <a:chExt cx="1653840" cy="459720"/>
            </a:xfrm>
          </p:grpSpPr>
          <p:sp>
            <p:nvSpPr>
              <p:cNvPr id="97" name="Oval 14"/>
              <p:cNvSpPr/>
              <p:nvPr/>
            </p:nvSpPr>
            <p:spPr>
              <a:xfrm>
                <a:off x="1368360" y="2997360"/>
                <a:ext cx="172800" cy="17316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5"/>
              <p:cNvSpPr/>
              <p:nvPr/>
            </p:nvSpPr>
            <p:spPr>
              <a:xfrm>
                <a:off x="1796040" y="2830680"/>
                <a:ext cx="122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ill Sans MT"/>
                  </a:rPr>
                  <a:t>SEME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6"/>
            <p:cNvGrpSpPr/>
            <p:nvPr/>
          </p:nvGrpSpPr>
          <p:grpSpPr>
            <a:xfrm>
              <a:off x="1368360" y="3409920"/>
              <a:ext cx="1714680" cy="459720"/>
              <a:chOff x="1368360" y="3409920"/>
              <a:chExt cx="1714680" cy="459720"/>
            </a:xfrm>
          </p:grpSpPr>
          <p:sp>
            <p:nvSpPr>
              <p:cNvPr id="100" name="Oval 17"/>
              <p:cNvSpPr/>
              <p:nvPr/>
            </p:nvSpPr>
            <p:spPr>
              <a:xfrm>
                <a:off x="1368360" y="3584520"/>
                <a:ext cx="173160" cy="173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8"/>
              <p:cNvSpPr/>
              <p:nvPr/>
            </p:nvSpPr>
            <p:spPr>
              <a:xfrm>
                <a:off x="1815840" y="3409920"/>
                <a:ext cx="126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ill Sans MT"/>
                  </a:rPr>
                  <a:t>BLOO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9"/>
            <p:cNvGrpSpPr/>
            <p:nvPr/>
          </p:nvGrpSpPr>
          <p:grpSpPr>
            <a:xfrm>
              <a:off x="1368360" y="3983040"/>
              <a:ext cx="1571760" cy="459720"/>
              <a:chOff x="1368360" y="3983040"/>
              <a:chExt cx="1571760" cy="459720"/>
            </a:xfrm>
          </p:grpSpPr>
          <p:sp>
            <p:nvSpPr>
              <p:cNvPr id="103" name="Oval 20"/>
              <p:cNvSpPr/>
              <p:nvPr/>
            </p:nvSpPr>
            <p:spPr>
              <a:xfrm>
                <a:off x="1368360" y="4125960"/>
                <a:ext cx="173160" cy="1728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1"/>
              <p:cNvSpPr/>
              <p:nvPr/>
            </p:nvSpPr>
            <p:spPr>
              <a:xfrm>
                <a:off x="1790280" y="3983040"/>
                <a:ext cx="114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69696"/>
                    </a:solidFill>
                    <a:latin typeface="Gill Sans MT"/>
                  </a:rPr>
                  <a:t>URIN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Rectangle 22"/>
          <p:cNvSpPr/>
          <p:nvPr/>
        </p:nvSpPr>
        <p:spPr>
          <a:xfrm>
            <a:off x="0" y="609480"/>
            <a:ext cx="9140760" cy="101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016280" y="70164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Introduction to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RSID</a:t>
            </a:r>
            <a:r>
              <a:rPr b="1" lang="en-US" sz="2400" spc="-1" strike="noStrike" baseline="50000">
                <a:solidFill>
                  <a:srgbClr val="000000"/>
                </a:solidFill>
                <a:latin typeface="Gill Sans MT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Tests for Forensic Labora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47200" y="2430360"/>
            <a:ext cx="816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Lateral Flow Immunochromatograph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trip Tests 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dentification of Body 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704320" y="4359240"/>
            <a:ext cx="384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RSID</a:t>
            </a:r>
            <a:r>
              <a:rPr b="1" lang="en-US" sz="2800" spc="-1" strike="noStrike" baseline="50000">
                <a:solidFill>
                  <a:srgbClr val="000000"/>
                </a:solidFill>
                <a:latin typeface="Gill Sans MT"/>
              </a:rPr>
              <a:t>TM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4000" spc="-1" strike="noStrike">
                <a:solidFill>
                  <a:srgbClr val="0000ff"/>
                </a:solidFill>
                <a:latin typeface="Gill Sans MT"/>
              </a:rPr>
              <a:t>S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59000" y="1009800"/>
            <a:ext cx="74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st Format: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teral flow immunochromatographic strip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37920" y="1627200"/>
            <a:ext cx="57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tigen Detected: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uman Semenogelin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05440" y="2238480"/>
            <a:ext cx="75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tibodies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Mouse monoclonals, non-overlapping epi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623960" y="285264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beling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lloidal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705720" y="7632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Gill Sans MT"/>
              </a:rPr>
              <a:t>SEMEN</a:t>
            </a:r>
            <a:r>
              <a:rPr b="0" lang="en-US" sz="3200" spc="-1" strike="noStrike">
                <a:solidFill>
                  <a:srgbClr val="3333ff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609480"/>
            <a:ext cx="9140760" cy="101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450080" y="3467160"/>
            <a:ext cx="68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ensitivity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&lt; 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 semen [ slight Hook effect observ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455120" y="4081320"/>
            <a:ext cx="56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ross-Reaction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one observed to date (see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623600" y="469584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st Read-out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513080" y="531180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ay Time: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minutes ‘active’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5888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730920" y="76320"/>
            <a:ext cx="23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Gill Sans MT"/>
              </a:rPr>
              <a:t>S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2600" y="609480"/>
            <a:ext cx="9140760" cy="101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7772400" y="3138480"/>
            <a:ext cx="1193400" cy="1173240"/>
            <a:chOff x="7772400" y="3138480"/>
            <a:chExt cx="1193400" cy="1173240"/>
          </a:xfrm>
        </p:grpSpPr>
        <p:sp>
          <p:nvSpPr>
            <p:cNvPr id="123" name="Line 5"/>
            <p:cNvSpPr/>
            <p:nvPr/>
          </p:nvSpPr>
          <p:spPr>
            <a:xfrm flipH="1">
              <a:off x="7772400" y="3138480"/>
              <a:ext cx="1440" cy="117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6" descr="MCj03226260000[1]"/>
            <p:cNvPicPr/>
            <p:nvPr/>
          </p:nvPicPr>
          <p:blipFill>
            <a:blip r:embed="rId1"/>
            <a:stretch/>
          </p:blipFill>
          <p:spPr>
            <a:xfrm>
              <a:off x="8294760" y="3616200"/>
              <a:ext cx="31104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7936200" y="323064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ook Antiqua"/>
                </a:rPr>
                <a:t>~ 15 m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3796920" y="4965840"/>
            <a:ext cx="1876680" cy="1520280"/>
            <a:chOff x="3796920" y="4965840"/>
            <a:chExt cx="1876680" cy="1520280"/>
          </a:xfrm>
        </p:grpSpPr>
        <p:grpSp>
          <p:nvGrpSpPr>
            <p:cNvPr id="127" name="Group 9"/>
            <p:cNvGrpSpPr/>
            <p:nvPr/>
          </p:nvGrpSpPr>
          <p:grpSpPr>
            <a:xfrm>
              <a:off x="3796920" y="4965840"/>
              <a:ext cx="1726200" cy="1520280"/>
              <a:chOff x="3796920" y="4965840"/>
              <a:chExt cx="1726200" cy="1520280"/>
            </a:xfrm>
          </p:grpSpPr>
          <p:grpSp>
            <p:nvGrpSpPr>
              <p:cNvPr id="128" name="Group 10"/>
              <p:cNvGrpSpPr/>
              <p:nvPr/>
            </p:nvGrpSpPr>
            <p:grpSpPr>
              <a:xfrm>
                <a:off x="4429080" y="4965840"/>
                <a:ext cx="495000" cy="946080"/>
                <a:chOff x="4429080" y="4965840"/>
                <a:chExt cx="495000" cy="946080"/>
              </a:xfrm>
            </p:grpSpPr>
            <p:sp>
              <p:nvSpPr>
                <p:cNvPr id="129" name="AutoShape 11"/>
                <p:cNvSpPr/>
                <p:nvPr/>
              </p:nvSpPr>
              <p:spPr>
                <a:xfrm>
                  <a:off x="4429080" y="5181840"/>
                  <a:ext cx="495000" cy="730080"/>
                </a:xfrm>
                <a:custGeom>
                  <a:avLst/>
                  <a:gdLst>
                    <a:gd name="textAreaLeft" fmla="*/ 24120 w 495000"/>
                    <a:gd name="textAreaRight" fmla="*/ 470880 w 495000"/>
                    <a:gd name="textAreaTop" fmla="*/ 24120 h 730080"/>
                    <a:gd name="textAreaBottom" fmla="*/ 705960 h 730080"/>
                  </a:gdLst>
                  <a:ahLst/>
                  <a:rect l="textAreaLeft" t="textAreaTop" r="textAreaRight" b="textAreaBottom"/>
                  <a:pathLst>
                    <a:path w="21600" h="31851">
                      <a:moveTo>
                        <a:pt x="3600" y="0"/>
                      </a:moveTo>
                      <a:arcTo wR="3600" hR="3600" stAng="16200000" swAng="-5400000"/>
                      <a:lnTo>
                        <a:pt x="0" y="28251"/>
                      </a:lnTo>
                      <a:arcTo wR="3600" hR="3600" stAng="10800000" swAng="-5400000"/>
                      <a:lnTo>
                        <a:pt x="18000" y="3185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12"/>
                <p:cNvSpPr/>
                <p:nvPr/>
              </p:nvSpPr>
              <p:spPr>
                <a:xfrm>
                  <a:off x="4429080" y="4965840"/>
                  <a:ext cx="482400" cy="196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3"/>
                <p:cNvSpPr/>
                <p:nvPr/>
              </p:nvSpPr>
              <p:spPr>
                <a:xfrm>
                  <a:off x="4485960" y="5403960"/>
                  <a:ext cx="38052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 Box 14"/>
              <p:cNvSpPr/>
              <p:nvPr/>
            </p:nvSpPr>
            <p:spPr>
              <a:xfrm>
                <a:off x="3796920" y="590544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Gill Sans MT"/>
                  </a:rPr>
                  <a:t>RSI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Gill Sans MT"/>
                  </a:rPr>
                  <a:t>T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 Antiqua"/>
                  </a:rPr>
                  <a:t>Running Buff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5"/>
            <p:cNvCxnSpPr/>
            <p:nvPr/>
          </p:nvCxnSpPr>
          <p:spPr>
            <a:xfrm flipV="1">
              <a:off x="4987440" y="5041440"/>
              <a:ext cx="686520" cy="419760"/>
            </a:xfrm>
            <a:prstGeom prst="curvedConnector5">
              <a:avLst>
                <a:gd name="adj1" fmla="val 50000"/>
                <a:gd name="adj2" fmla="val 49957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4" name="Group 16"/>
          <p:cNvGrpSpPr/>
          <p:nvPr/>
        </p:nvGrpSpPr>
        <p:grpSpPr>
          <a:xfrm>
            <a:off x="4948920" y="3828960"/>
            <a:ext cx="2109960" cy="1244520"/>
            <a:chOff x="4948920" y="3828960"/>
            <a:chExt cx="2109960" cy="1244520"/>
          </a:xfrm>
        </p:grpSpPr>
        <p:grpSp>
          <p:nvGrpSpPr>
            <p:cNvPr id="135" name="Group 17"/>
            <p:cNvGrpSpPr/>
            <p:nvPr/>
          </p:nvGrpSpPr>
          <p:grpSpPr>
            <a:xfrm>
              <a:off x="5823000" y="4535640"/>
              <a:ext cx="419040" cy="537840"/>
              <a:chOff x="5823000" y="4535640"/>
              <a:chExt cx="419040" cy="537840"/>
            </a:xfrm>
          </p:grpSpPr>
          <p:sp>
            <p:nvSpPr>
              <p:cNvPr id="136" name="AutoShape 18"/>
              <p:cNvSpPr/>
              <p:nvPr/>
            </p:nvSpPr>
            <p:spPr>
              <a:xfrm>
                <a:off x="5823000" y="4535640"/>
                <a:ext cx="419040" cy="53784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7840"/>
                  <a:gd name="textAreaBottom" fmla="*/ 425160 h 53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9"/>
              <p:cNvGrpSpPr/>
              <p:nvPr/>
            </p:nvGrpSpPr>
            <p:grpSpPr>
              <a:xfrm>
                <a:off x="5896080" y="4819680"/>
                <a:ext cx="264960" cy="82080"/>
                <a:chOff x="5896080" y="4819680"/>
                <a:chExt cx="264960" cy="82080"/>
              </a:xfrm>
            </p:grpSpPr>
            <p:sp>
              <p:nvSpPr>
                <p:cNvPr id="138" name="Oval 20"/>
                <p:cNvSpPr/>
                <p:nvPr/>
              </p:nvSpPr>
              <p:spPr>
                <a:xfrm>
                  <a:off x="5899680" y="4849560"/>
                  <a:ext cx="5184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21"/>
                <p:cNvSpPr/>
                <p:nvPr/>
              </p:nvSpPr>
              <p:spPr>
                <a:xfrm>
                  <a:off x="5951880" y="484956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22"/>
                <p:cNvSpPr/>
                <p:nvPr/>
              </p:nvSpPr>
              <p:spPr>
                <a:xfrm>
                  <a:off x="6004080" y="484956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23"/>
                <p:cNvSpPr/>
                <p:nvPr/>
              </p:nvSpPr>
              <p:spPr>
                <a:xfrm>
                  <a:off x="6056280" y="484956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24"/>
                <p:cNvSpPr/>
                <p:nvPr/>
              </p:nvSpPr>
              <p:spPr>
                <a:xfrm>
                  <a:off x="6108840" y="4849560"/>
                  <a:ext cx="52200" cy="52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25"/>
                <p:cNvSpPr/>
                <p:nvPr/>
              </p:nvSpPr>
              <p:spPr>
                <a:xfrm>
                  <a:off x="5896080" y="4819680"/>
                  <a:ext cx="261360" cy="5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" name="Text Box 26"/>
            <p:cNvSpPr/>
            <p:nvPr/>
          </p:nvSpPr>
          <p:spPr>
            <a:xfrm>
              <a:off x="4948920" y="3828960"/>
              <a:ext cx="2109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mix aliquot of extr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with running buf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7"/>
          <p:cNvGrpSpPr/>
          <p:nvPr/>
        </p:nvGrpSpPr>
        <p:grpSpPr>
          <a:xfrm>
            <a:off x="200520" y="3776760"/>
            <a:ext cx="4720320" cy="2124360"/>
            <a:chOff x="200520" y="3776760"/>
            <a:chExt cx="4720320" cy="2124360"/>
          </a:xfrm>
        </p:grpSpPr>
        <p:cxnSp>
          <p:nvCxnSpPr>
            <p:cNvPr id="146" name="AutoShape 28"/>
            <p:cNvCxnSpPr/>
            <p:nvPr/>
          </p:nvCxnSpPr>
          <p:spPr>
            <a:xfrm flipV="1" rot="10800000">
              <a:off x="2004120" y="4172400"/>
              <a:ext cx="2917080" cy="1729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" name="Text Box 29"/>
            <p:cNvSpPr/>
            <p:nvPr/>
          </p:nvSpPr>
          <p:spPr>
            <a:xfrm>
              <a:off x="200520" y="3776760"/>
              <a:ext cx="186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add to RSID-Se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30" descr=""/>
          <p:cNvPicPr/>
          <p:nvPr/>
        </p:nvPicPr>
        <p:blipFill>
          <a:blip r:embed="rId2"/>
          <a:stretch/>
        </p:blipFill>
        <p:spPr>
          <a:xfrm>
            <a:off x="128520" y="65160"/>
            <a:ext cx="758880" cy="13334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31"/>
          <p:cNvGrpSpPr/>
          <p:nvPr/>
        </p:nvGrpSpPr>
        <p:grpSpPr>
          <a:xfrm>
            <a:off x="2535120" y="888840"/>
            <a:ext cx="3477240" cy="1729080"/>
            <a:chOff x="2535120" y="888840"/>
            <a:chExt cx="3477240" cy="1729080"/>
          </a:xfrm>
        </p:grpSpPr>
        <p:grpSp>
          <p:nvGrpSpPr>
            <p:cNvPr id="150" name="Group 32"/>
            <p:cNvGrpSpPr/>
            <p:nvPr/>
          </p:nvGrpSpPr>
          <p:grpSpPr>
            <a:xfrm>
              <a:off x="4193640" y="1410480"/>
              <a:ext cx="1818720" cy="839160"/>
              <a:chOff x="4193640" y="1410480"/>
              <a:chExt cx="1818720" cy="839160"/>
            </a:xfrm>
          </p:grpSpPr>
          <p:sp>
            <p:nvSpPr>
              <p:cNvPr id="151" name="Oval 33"/>
              <p:cNvSpPr/>
              <p:nvPr/>
            </p:nvSpPr>
            <p:spPr>
              <a:xfrm rot="20184000">
                <a:off x="4204800" y="2078640"/>
                <a:ext cx="289080" cy="1177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34"/>
              <p:cNvSpPr/>
              <p:nvPr/>
            </p:nvSpPr>
            <p:spPr>
              <a:xfrm flipV="1">
                <a:off x="4479480" y="1410480"/>
                <a:ext cx="1532880" cy="66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Line 35"/>
            <p:cNvSpPr/>
            <p:nvPr/>
          </p:nvSpPr>
          <p:spPr>
            <a:xfrm>
              <a:off x="2535120" y="2481120"/>
              <a:ext cx="117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6"/>
            <p:cNvSpPr/>
            <p:nvPr/>
          </p:nvSpPr>
          <p:spPr>
            <a:xfrm>
              <a:off x="2916720" y="888840"/>
              <a:ext cx="2253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adsorb stain onto sw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remove cut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7"/>
            <p:cNvSpPr/>
            <p:nvPr/>
          </p:nvSpPr>
          <p:spPr>
            <a:xfrm>
              <a:off x="4267080" y="2460600"/>
              <a:ext cx="157320" cy="157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38"/>
          <p:cNvGrpSpPr/>
          <p:nvPr/>
        </p:nvGrpSpPr>
        <p:grpSpPr>
          <a:xfrm>
            <a:off x="5189400" y="974880"/>
            <a:ext cx="3701880" cy="1660320"/>
            <a:chOff x="5189400" y="974880"/>
            <a:chExt cx="3701880" cy="1660320"/>
          </a:xfrm>
        </p:grpSpPr>
        <p:sp>
          <p:nvSpPr>
            <p:cNvPr id="157" name="Line 39"/>
            <p:cNvSpPr/>
            <p:nvPr/>
          </p:nvSpPr>
          <p:spPr>
            <a:xfrm>
              <a:off x="5189400" y="2476440"/>
              <a:ext cx="117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40"/>
            <p:cNvGrpSpPr/>
            <p:nvPr/>
          </p:nvGrpSpPr>
          <p:grpSpPr>
            <a:xfrm>
              <a:off x="8080200" y="1804320"/>
              <a:ext cx="811080" cy="830520"/>
              <a:chOff x="8080200" y="1804320"/>
              <a:chExt cx="811080" cy="830520"/>
            </a:xfrm>
          </p:grpSpPr>
          <p:sp>
            <p:nvSpPr>
              <p:cNvPr id="159" name="Oval 41"/>
              <p:cNvSpPr/>
              <p:nvPr/>
            </p:nvSpPr>
            <p:spPr>
              <a:xfrm>
                <a:off x="8802360" y="1808280"/>
                <a:ext cx="88920" cy="8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42"/>
              <p:cNvSpPr/>
              <p:nvPr/>
            </p:nvSpPr>
            <p:spPr>
              <a:xfrm>
                <a:off x="8080200" y="2097000"/>
                <a:ext cx="419040" cy="53784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7840"/>
                  <a:gd name="textAreaBottom" fmla="*/ 425160 h 53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43"/>
              <p:cNvSpPr/>
              <p:nvPr/>
            </p:nvSpPr>
            <p:spPr>
              <a:xfrm rot="16200000">
                <a:off x="8115840" y="2371680"/>
                <a:ext cx="339480" cy="13500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44"/>
              <p:cNvSpPr/>
              <p:nvPr/>
            </p:nvSpPr>
            <p:spPr>
              <a:xfrm rot="19591800">
                <a:off x="8464320" y="1909440"/>
                <a:ext cx="42048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Group 45"/>
              <p:cNvGrpSpPr/>
              <p:nvPr/>
            </p:nvGrpSpPr>
            <p:grpSpPr>
              <a:xfrm>
                <a:off x="8108640" y="2127240"/>
                <a:ext cx="356760" cy="110520"/>
                <a:chOff x="8108640" y="2127240"/>
                <a:chExt cx="356760" cy="110520"/>
              </a:xfrm>
            </p:grpSpPr>
            <p:sp>
              <p:nvSpPr>
                <p:cNvPr id="164" name="Oval 46"/>
                <p:cNvSpPr/>
                <p:nvPr/>
              </p:nvSpPr>
              <p:spPr>
                <a:xfrm>
                  <a:off x="8113680" y="2167560"/>
                  <a:ext cx="6984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Oval 47"/>
                <p:cNvSpPr/>
                <p:nvPr/>
              </p:nvSpPr>
              <p:spPr>
                <a:xfrm>
                  <a:off x="8183880" y="216756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Oval 48"/>
                <p:cNvSpPr/>
                <p:nvPr/>
              </p:nvSpPr>
              <p:spPr>
                <a:xfrm>
                  <a:off x="8254080" y="216756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49"/>
                <p:cNvSpPr/>
                <p:nvPr/>
              </p:nvSpPr>
              <p:spPr>
                <a:xfrm>
                  <a:off x="8324640" y="216756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50"/>
                <p:cNvSpPr/>
                <p:nvPr/>
              </p:nvSpPr>
              <p:spPr>
                <a:xfrm>
                  <a:off x="8395200" y="216756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51"/>
                <p:cNvSpPr/>
                <p:nvPr/>
              </p:nvSpPr>
              <p:spPr>
                <a:xfrm>
                  <a:off x="8108640" y="2127240"/>
                  <a:ext cx="352080" cy="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Text Box 52"/>
            <p:cNvSpPr/>
            <p:nvPr/>
          </p:nvSpPr>
          <p:spPr>
            <a:xfrm>
              <a:off x="6873840" y="974880"/>
              <a:ext cx="187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 in provi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ion buf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53"/>
            <p:cNvGrpSpPr/>
            <p:nvPr/>
          </p:nvGrpSpPr>
          <p:grpSpPr>
            <a:xfrm>
              <a:off x="7026120" y="1804680"/>
              <a:ext cx="811080" cy="830520"/>
              <a:chOff x="7026120" y="1804680"/>
              <a:chExt cx="811080" cy="830520"/>
            </a:xfrm>
          </p:grpSpPr>
          <p:sp>
            <p:nvSpPr>
              <p:cNvPr id="172" name="Oval 54"/>
              <p:cNvSpPr/>
              <p:nvPr/>
            </p:nvSpPr>
            <p:spPr>
              <a:xfrm>
                <a:off x="7748280" y="180828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55"/>
              <p:cNvSpPr/>
              <p:nvPr/>
            </p:nvSpPr>
            <p:spPr>
              <a:xfrm>
                <a:off x="7026120" y="209700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56"/>
              <p:cNvSpPr/>
              <p:nvPr/>
            </p:nvSpPr>
            <p:spPr>
              <a:xfrm rot="19591800">
                <a:off x="7410240" y="1909800"/>
                <a:ext cx="42048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57"/>
              <p:cNvGrpSpPr/>
              <p:nvPr/>
            </p:nvGrpSpPr>
            <p:grpSpPr>
              <a:xfrm>
                <a:off x="7054560" y="2127240"/>
                <a:ext cx="356760" cy="110880"/>
                <a:chOff x="7054560" y="2127240"/>
                <a:chExt cx="356760" cy="110880"/>
              </a:xfrm>
            </p:grpSpPr>
            <p:sp>
              <p:nvSpPr>
                <p:cNvPr id="176" name="Oval 58"/>
                <p:cNvSpPr/>
                <p:nvPr/>
              </p:nvSpPr>
              <p:spPr>
                <a:xfrm>
                  <a:off x="7059600" y="2167560"/>
                  <a:ext cx="6984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9"/>
                <p:cNvSpPr/>
                <p:nvPr/>
              </p:nvSpPr>
              <p:spPr>
                <a:xfrm>
                  <a:off x="7129800" y="2167560"/>
                  <a:ext cx="7020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0"/>
                <p:cNvSpPr/>
                <p:nvPr/>
              </p:nvSpPr>
              <p:spPr>
                <a:xfrm>
                  <a:off x="7200000" y="2167560"/>
                  <a:ext cx="7020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1"/>
                <p:cNvSpPr/>
                <p:nvPr/>
              </p:nvSpPr>
              <p:spPr>
                <a:xfrm>
                  <a:off x="7270560" y="2167560"/>
                  <a:ext cx="7020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2"/>
                <p:cNvSpPr/>
                <p:nvPr/>
              </p:nvSpPr>
              <p:spPr>
                <a:xfrm>
                  <a:off x="7341120" y="2167560"/>
                  <a:ext cx="7020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63"/>
                <p:cNvSpPr/>
                <p:nvPr/>
              </p:nvSpPr>
              <p:spPr>
                <a:xfrm>
                  <a:off x="7054560" y="2127240"/>
                  <a:ext cx="352080" cy="7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Oval 64"/>
              <p:cNvSpPr/>
              <p:nvPr/>
            </p:nvSpPr>
            <p:spPr>
              <a:xfrm>
                <a:off x="7144920" y="2306520"/>
                <a:ext cx="157320" cy="15732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 Box 65"/>
            <p:cNvSpPr/>
            <p:nvPr/>
          </p:nvSpPr>
          <p:spPr>
            <a:xfrm>
              <a:off x="7592760" y="2257560"/>
              <a:ext cx="34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66"/>
          <p:cNvGrpSpPr/>
          <p:nvPr/>
        </p:nvGrpSpPr>
        <p:grpSpPr>
          <a:xfrm>
            <a:off x="6391080" y="4771440"/>
            <a:ext cx="2403360" cy="830880"/>
            <a:chOff x="6391080" y="4771440"/>
            <a:chExt cx="2403360" cy="830880"/>
          </a:xfrm>
        </p:grpSpPr>
        <p:grpSp>
          <p:nvGrpSpPr>
            <p:cNvPr id="185" name="Group 67"/>
            <p:cNvGrpSpPr/>
            <p:nvPr/>
          </p:nvGrpSpPr>
          <p:grpSpPr>
            <a:xfrm>
              <a:off x="7169040" y="4771440"/>
              <a:ext cx="811080" cy="830880"/>
              <a:chOff x="7169040" y="4771440"/>
              <a:chExt cx="811080" cy="830880"/>
            </a:xfrm>
          </p:grpSpPr>
          <p:sp>
            <p:nvSpPr>
              <p:cNvPr id="186" name="Oval 68"/>
              <p:cNvSpPr/>
              <p:nvPr/>
            </p:nvSpPr>
            <p:spPr>
              <a:xfrm>
                <a:off x="7891200" y="477504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9"/>
              <p:cNvSpPr/>
              <p:nvPr/>
            </p:nvSpPr>
            <p:spPr>
              <a:xfrm>
                <a:off x="7169040" y="506412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70"/>
              <p:cNvSpPr/>
              <p:nvPr/>
            </p:nvSpPr>
            <p:spPr>
              <a:xfrm rot="16200000">
                <a:off x="7204320" y="5339160"/>
                <a:ext cx="339840" cy="13500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71"/>
              <p:cNvSpPr/>
              <p:nvPr/>
            </p:nvSpPr>
            <p:spPr>
              <a:xfrm rot="19591800">
                <a:off x="7552800" y="4876560"/>
                <a:ext cx="420480" cy="128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Group 72"/>
              <p:cNvGrpSpPr/>
              <p:nvPr/>
            </p:nvGrpSpPr>
            <p:grpSpPr>
              <a:xfrm>
                <a:off x="7197480" y="5094360"/>
                <a:ext cx="356760" cy="110520"/>
                <a:chOff x="7197480" y="5094360"/>
                <a:chExt cx="356760" cy="110520"/>
              </a:xfrm>
            </p:grpSpPr>
            <p:sp>
              <p:nvSpPr>
                <p:cNvPr id="191" name="Oval 73"/>
                <p:cNvSpPr/>
                <p:nvPr/>
              </p:nvSpPr>
              <p:spPr>
                <a:xfrm>
                  <a:off x="7202520" y="5134680"/>
                  <a:ext cx="6984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74"/>
                <p:cNvSpPr/>
                <p:nvPr/>
              </p:nvSpPr>
              <p:spPr>
                <a:xfrm>
                  <a:off x="7272720" y="513468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75"/>
                <p:cNvSpPr/>
                <p:nvPr/>
              </p:nvSpPr>
              <p:spPr>
                <a:xfrm>
                  <a:off x="7342920" y="513468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76"/>
                <p:cNvSpPr/>
                <p:nvPr/>
              </p:nvSpPr>
              <p:spPr>
                <a:xfrm>
                  <a:off x="7413480" y="513468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77"/>
                <p:cNvSpPr/>
                <p:nvPr/>
              </p:nvSpPr>
              <p:spPr>
                <a:xfrm>
                  <a:off x="7484040" y="5134680"/>
                  <a:ext cx="70200" cy="70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78"/>
                <p:cNvSpPr/>
                <p:nvPr/>
              </p:nvSpPr>
              <p:spPr>
                <a:xfrm>
                  <a:off x="7197480" y="5094360"/>
                  <a:ext cx="352080" cy="70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97" name="AutoShape 79"/>
            <p:cNvCxnSpPr/>
            <p:nvPr/>
          </p:nvCxnSpPr>
          <p:spPr>
            <a:xfrm rot="10800000">
              <a:off x="6390720" y="5047560"/>
              <a:ext cx="730800" cy="388080"/>
            </a:xfrm>
            <a:prstGeom prst="curvedConnector5">
              <a:avLst>
                <a:gd name="adj1" fmla="val 49975"/>
                <a:gd name="adj2" fmla="val 49953"/>
                <a:gd name="adj3" fmla="val 49975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98" name="Group 80"/>
            <p:cNvGrpSpPr/>
            <p:nvPr/>
          </p:nvGrpSpPr>
          <p:grpSpPr>
            <a:xfrm>
              <a:off x="7983360" y="4771440"/>
              <a:ext cx="811080" cy="830520"/>
              <a:chOff x="7983360" y="4771440"/>
              <a:chExt cx="811080" cy="830520"/>
            </a:xfrm>
          </p:grpSpPr>
          <p:sp>
            <p:nvSpPr>
              <p:cNvPr id="199" name="Oval 81"/>
              <p:cNvSpPr/>
              <p:nvPr/>
            </p:nvSpPr>
            <p:spPr>
              <a:xfrm>
                <a:off x="8705520" y="4775040"/>
                <a:ext cx="889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82"/>
              <p:cNvSpPr/>
              <p:nvPr/>
            </p:nvSpPr>
            <p:spPr>
              <a:xfrm>
                <a:off x="7983360" y="5063760"/>
                <a:ext cx="419040" cy="538200"/>
              </a:xfrm>
              <a:custGeom>
                <a:avLst/>
                <a:gdLst>
                  <a:gd name="textAreaLeft" fmla="*/ 87120 w 419040"/>
                  <a:gd name="textAreaRight" fmla="*/ 331920 w 419040"/>
                  <a:gd name="textAreaTop" fmla="*/ 112680 h 538200"/>
                  <a:gd name="textAreaBottom" fmla="*/ 42552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83"/>
              <p:cNvSpPr/>
              <p:nvPr/>
            </p:nvSpPr>
            <p:spPr>
              <a:xfrm rot="19591800">
                <a:off x="8367480" y="4876560"/>
                <a:ext cx="420480" cy="1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" name="Group 84"/>
              <p:cNvGrpSpPr/>
              <p:nvPr/>
            </p:nvGrpSpPr>
            <p:grpSpPr>
              <a:xfrm>
                <a:off x="8011800" y="5094000"/>
                <a:ext cx="356760" cy="110880"/>
                <a:chOff x="8011800" y="5094000"/>
                <a:chExt cx="356760" cy="110880"/>
              </a:xfrm>
            </p:grpSpPr>
            <p:sp>
              <p:nvSpPr>
                <p:cNvPr id="203" name="Oval 85"/>
                <p:cNvSpPr/>
                <p:nvPr/>
              </p:nvSpPr>
              <p:spPr>
                <a:xfrm>
                  <a:off x="8016840" y="5134320"/>
                  <a:ext cx="6984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6"/>
                <p:cNvSpPr/>
                <p:nvPr/>
              </p:nvSpPr>
              <p:spPr>
                <a:xfrm>
                  <a:off x="8087040" y="5134320"/>
                  <a:ext cx="7020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87"/>
                <p:cNvSpPr/>
                <p:nvPr/>
              </p:nvSpPr>
              <p:spPr>
                <a:xfrm>
                  <a:off x="8157240" y="5134320"/>
                  <a:ext cx="7020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88"/>
                <p:cNvSpPr/>
                <p:nvPr/>
              </p:nvSpPr>
              <p:spPr>
                <a:xfrm>
                  <a:off x="8227800" y="5134320"/>
                  <a:ext cx="7020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89"/>
                <p:cNvSpPr/>
                <p:nvPr/>
              </p:nvSpPr>
              <p:spPr>
                <a:xfrm>
                  <a:off x="8298360" y="5134320"/>
                  <a:ext cx="70200" cy="70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90"/>
                <p:cNvSpPr/>
                <p:nvPr/>
              </p:nvSpPr>
              <p:spPr>
                <a:xfrm>
                  <a:off x="8011800" y="5094000"/>
                  <a:ext cx="352080" cy="7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Oval 91"/>
              <p:cNvSpPr/>
              <p:nvPr/>
            </p:nvSpPr>
            <p:spPr>
              <a:xfrm>
                <a:off x="8102160" y="5273280"/>
                <a:ext cx="157320" cy="15732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 Box 92"/>
            <p:cNvSpPr/>
            <p:nvPr/>
          </p:nvSpPr>
          <p:spPr>
            <a:xfrm>
              <a:off x="7608600" y="5249880"/>
              <a:ext cx="34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93"/>
          <p:cNvGrpSpPr/>
          <p:nvPr/>
        </p:nvGrpSpPr>
        <p:grpSpPr>
          <a:xfrm>
            <a:off x="568440" y="887760"/>
            <a:ext cx="2564640" cy="2080800"/>
            <a:chOff x="568440" y="887760"/>
            <a:chExt cx="2564640" cy="2080800"/>
          </a:xfrm>
        </p:grpSpPr>
        <p:grpSp>
          <p:nvGrpSpPr>
            <p:cNvPr id="212" name="Group 94"/>
            <p:cNvGrpSpPr/>
            <p:nvPr/>
          </p:nvGrpSpPr>
          <p:grpSpPr>
            <a:xfrm>
              <a:off x="568440" y="1449360"/>
              <a:ext cx="2564640" cy="1519200"/>
              <a:chOff x="568440" y="1449360"/>
              <a:chExt cx="2564640" cy="1519200"/>
            </a:xfrm>
          </p:grpSpPr>
          <p:grpSp>
            <p:nvGrpSpPr>
              <p:cNvPr id="213" name="Group 95"/>
              <p:cNvGrpSpPr/>
              <p:nvPr/>
            </p:nvGrpSpPr>
            <p:grpSpPr>
              <a:xfrm>
                <a:off x="568440" y="1449360"/>
                <a:ext cx="1815840" cy="1519200"/>
                <a:chOff x="568440" y="1449360"/>
                <a:chExt cx="1815840" cy="1519200"/>
              </a:xfrm>
            </p:grpSpPr>
            <p:sp>
              <p:nvSpPr>
                <p:cNvPr id="214" name="AutoShape 96"/>
                <p:cNvSpPr/>
                <p:nvPr/>
              </p:nvSpPr>
              <p:spPr>
                <a:xfrm>
                  <a:off x="568440" y="1449360"/>
                  <a:ext cx="1815840" cy="1519200"/>
                </a:xfrm>
                <a:prstGeom prst="foldedCorner">
                  <a:avLst>
                    <a:gd name="adj" fmla="val 125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97"/>
                <p:cNvSpPr/>
                <p:nvPr/>
              </p:nvSpPr>
              <p:spPr>
                <a:xfrm>
                  <a:off x="855720" y="1746000"/>
                  <a:ext cx="828720" cy="565200"/>
                </a:xfrm>
                <a:custGeom>
                  <a:avLst/>
                  <a:gdLst>
                    <a:gd name="textAreaLeft" fmla="*/ 0 w 828720"/>
                    <a:gd name="textAreaRight" fmla="*/ 829080 w 828720"/>
                    <a:gd name="textAreaTop" fmla="*/ 0 h 565200"/>
                    <a:gd name="textAreaBottom" fmla="*/ 565200 h 565200"/>
                  </a:gdLst>
                  <a:ahLst/>
                  <a:rect l="textAreaLeft" t="textAreaTop" r="textAreaRight" b="textAreaBottom"/>
                  <a:pathLst>
                    <a:path w="522" h="356">
                      <a:moveTo>
                        <a:pt x="202" y="39"/>
                      </a:moveTo>
                      <a:cubicBezTo>
                        <a:pt x="221" y="10"/>
                        <a:pt x="232" y="11"/>
                        <a:pt x="264" y="0"/>
                      </a:cubicBezTo>
                      <a:cubicBezTo>
                        <a:pt x="298" y="6"/>
                        <a:pt x="334" y="3"/>
                        <a:pt x="366" y="15"/>
                      </a:cubicBezTo>
                      <a:cubicBezTo>
                        <a:pt x="383" y="22"/>
                        <a:pt x="412" y="47"/>
                        <a:pt x="412" y="47"/>
                      </a:cubicBezTo>
                      <a:cubicBezTo>
                        <a:pt x="429" y="72"/>
                        <a:pt x="450" y="92"/>
                        <a:pt x="467" y="117"/>
                      </a:cubicBezTo>
                      <a:cubicBezTo>
                        <a:pt x="490" y="207"/>
                        <a:pt x="455" y="99"/>
                        <a:pt x="498" y="163"/>
                      </a:cubicBezTo>
                      <a:cubicBezTo>
                        <a:pt x="510" y="181"/>
                        <a:pt x="516" y="228"/>
                        <a:pt x="521" y="249"/>
                      </a:cubicBezTo>
                      <a:cubicBezTo>
                        <a:pt x="518" y="259"/>
                        <a:pt x="522" y="274"/>
                        <a:pt x="513" y="280"/>
                      </a:cubicBezTo>
                      <a:cubicBezTo>
                        <a:pt x="506" y="285"/>
                        <a:pt x="498" y="272"/>
                        <a:pt x="490" y="272"/>
                      </a:cubicBezTo>
                      <a:cubicBezTo>
                        <a:pt x="469" y="272"/>
                        <a:pt x="449" y="277"/>
                        <a:pt x="428" y="280"/>
                      </a:cubicBezTo>
                      <a:cubicBezTo>
                        <a:pt x="368" y="320"/>
                        <a:pt x="400" y="308"/>
                        <a:pt x="334" y="319"/>
                      </a:cubicBezTo>
                      <a:cubicBezTo>
                        <a:pt x="279" y="356"/>
                        <a:pt x="306" y="355"/>
                        <a:pt x="257" y="342"/>
                      </a:cubicBezTo>
                      <a:cubicBezTo>
                        <a:pt x="224" y="321"/>
                        <a:pt x="189" y="328"/>
                        <a:pt x="155" y="311"/>
                      </a:cubicBezTo>
                      <a:cubicBezTo>
                        <a:pt x="147" y="307"/>
                        <a:pt x="140" y="300"/>
                        <a:pt x="132" y="296"/>
                      </a:cubicBezTo>
                      <a:cubicBezTo>
                        <a:pt x="117" y="289"/>
                        <a:pt x="85" y="280"/>
                        <a:pt x="85" y="280"/>
                      </a:cubicBezTo>
                      <a:cubicBezTo>
                        <a:pt x="64" y="248"/>
                        <a:pt x="49" y="219"/>
                        <a:pt x="31" y="187"/>
                      </a:cubicBezTo>
                      <a:cubicBezTo>
                        <a:pt x="22" y="171"/>
                        <a:pt x="0" y="140"/>
                        <a:pt x="0" y="140"/>
                      </a:cubicBezTo>
                      <a:cubicBezTo>
                        <a:pt x="9" y="106"/>
                        <a:pt x="10" y="85"/>
                        <a:pt x="39" y="62"/>
                      </a:cubicBezTo>
                      <a:cubicBezTo>
                        <a:pt x="54" y="51"/>
                        <a:pt x="85" y="31"/>
                        <a:pt x="85" y="31"/>
                      </a:cubicBezTo>
                      <a:cubicBezTo>
                        <a:pt x="103" y="34"/>
                        <a:pt x="122" y="35"/>
                        <a:pt x="140" y="39"/>
                      </a:cubicBezTo>
                      <a:cubicBezTo>
                        <a:pt x="148" y="41"/>
                        <a:pt x="155" y="47"/>
                        <a:pt x="163" y="47"/>
                      </a:cubicBezTo>
                      <a:cubicBezTo>
                        <a:pt x="179" y="47"/>
                        <a:pt x="194" y="42"/>
                        <a:pt x="210" y="39"/>
                      </a:cubicBezTo>
                      <a:cubicBezTo>
                        <a:pt x="213" y="38"/>
                        <a:pt x="205" y="39"/>
                        <a:pt x="202" y="39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98"/>
              <p:cNvGrpSpPr/>
              <p:nvPr/>
            </p:nvGrpSpPr>
            <p:grpSpPr>
              <a:xfrm>
                <a:off x="1260360" y="1824120"/>
                <a:ext cx="1872720" cy="864000"/>
                <a:chOff x="1260360" y="1824120"/>
                <a:chExt cx="1872720" cy="864000"/>
              </a:xfrm>
            </p:grpSpPr>
            <p:sp>
              <p:nvSpPr>
                <p:cNvPr id="217" name="Oval 99"/>
                <p:cNvSpPr/>
                <p:nvPr/>
              </p:nvSpPr>
              <p:spPr>
                <a:xfrm rot="20184000">
                  <a:off x="1271880" y="2512800"/>
                  <a:ext cx="297720" cy="120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100"/>
                <p:cNvSpPr/>
                <p:nvPr/>
              </p:nvSpPr>
              <p:spPr>
                <a:xfrm flipV="1">
                  <a:off x="1554480" y="1824120"/>
                  <a:ext cx="157860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Group 101"/>
            <p:cNvGrpSpPr/>
            <p:nvPr/>
          </p:nvGrpSpPr>
          <p:grpSpPr>
            <a:xfrm>
              <a:off x="1616400" y="887760"/>
              <a:ext cx="699480" cy="999360"/>
              <a:chOff x="1616400" y="887760"/>
              <a:chExt cx="699480" cy="999360"/>
            </a:xfrm>
          </p:grpSpPr>
          <p:sp>
            <p:nvSpPr>
              <p:cNvPr id="220" name="AutoShape 102"/>
              <p:cNvSpPr/>
              <p:nvPr/>
            </p:nvSpPr>
            <p:spPr>
              <a:xfrm rot="1908000">
                <a:off x="1918800" y="863280"/>
                <a:ext cx="168480" cy="914400"/>
              </a:xfrm>
              <a:custGeom>
                <a:avLst/>
                <a:gdLst>
                  <a:gd name="textAreaLeft" fmla="*/ 30240 w 168480"/>
                  <a:gd name="textAreaRight" fmla="*/ 138240 w 168480"/>
                  <a:gd name="textAreaTop" fmla="*/ 166680 h 914400"/>
                  <a:gd name="textAreaBottom" fmla="*/ 7477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279" y="21600"/>
                    </a:lnTo>
                    <a:lnTo>
                      <a:pt x="1732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AutoShape 103"/>
              <p:cNvSpPr/>
              <p:nvPr/>
            </p:nvSpPr>
            <p:spPr>
              <a:xfrm rot="2000400">
                <a:off x="1668240" y="1658880"/>
                <a:ext cx="98280" cy="21888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104"/>
          <p:cNvGrpSpPr/>
          <p:nvPr/>
        </p:nvGrpSpPr>
        <p:grpSpPr>
          <a:xfrm>
            <a:off x="309600" y="4233960"/>
            <a:ext cx="1577880" cy="1770120"/>
            <a:chOff x="309600" y="4233960"/>
            <a:chExt cx="1577880" cy="1770120"/>
          </a:xfrm>
        </p:grpSpPr>
        <p:grpSp>
          <p:nvGrpSpPr>
            <p:cNvPr id="223" name="Group 105"/>
            <p:cNvGrpSpPr/>
            <p:nvPr/>
          </p:nvGrpSpPr>
          <p:grpSpPr>
            <a:xfrm>
              <a:off x="309600" y="4235400"/>
              <a:ext cx="666720" cy="1768680"/>
              <a:chOff x="309600" y="4235400"/>
              <a:chExt cx="666720" cy="1768680"/>
            </a:xfrm>
          </p:grpSpPr>
          <p:sp>
            <p:nvSpPr>
              <p:cNvPr id="224" name="AutoShape 106"/>
              <p:cNvSpPr/>
              <p:nvPr/>
            </p:nvSpPr>
            <p:spPr>
              <a:xfrm>
                <a:off x="309600" y="4235400"/>
                <a:ext cx="666720" cy="1768680"/>
              </a:xfrm>
              <a:custGeom>
                <a:avLst/>
                <a:gdLst>
                  <a:gd name="textAreaLeft" fmla="*/ 32400 w 666720"/>
                  <a:gd name="textAreaRight" fmla="*/ 634320 w 666720"/>
                  <a:gd name="textAreaTop" fmla="*/ 32400 h 1768680"/>
                  <a:gd name="textAreaBottom" fmla="*/ 1736280 h 1768680"/>
                </a:gdLst>
                <a:ahLst/>
                <a:rect l="textAreaLeft" t="textAreaTop" r="textAreaRight" b="textAreaBottom"/>
                <a:pathLst>
                  <a:path w="21600" h="57281">
                    <a:moveTo>
                      <a:pt x="3600" y="0"/>
                    </a:moveTo>
                    <a:arcTo wR="3600" hR="3600" stAng="16200000" swAng="-5400000"/>
                    <a:lnTo>
                      <a:pt x="0" y="53681"/>
                    </a:lnTo>
                    <a:arcTo wR="3600" hR="3600" stAng="10800000" swAng="-5400000"/>
                    <a:lnTo>
                      <a:pt x="18000" y="5728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07"/>
              <p:cNvSpPr/>
              <p:nvPr/>
            </p:nvSpPr>
            <p:spPr>
              <a:xfrm>
                <a:off x="542880" y="5594400"/>
                <a:ext cx="198360" cy="196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08"/>
              <p:cNvSpPr/>
              <p:nvPr/>
            </p:nvSpPr>
            <p:spPr>
              <a:xfrm>
                <a:off x="558720" y="4546440"/>
                <a:ext cx="168480" cy="80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09"/>
            <p:cNvGrpSpPr/>
            <p:nvPr/>
          </p:nvGrpSpPr>
          <p:grpSpPr>
            <a:xfrm>
              <a:off x="1220760" y="4233960"/>
              <a:ext cx="666720" cy="1768320"/>
              <a:chOff x="1220760" y="4233960"/>
              <a:chExt cx="666720" cy="1768320"/>
            </a:xfrm>
          </p:grpSpPr>
          <p:sp>
            <p:nvSpPr>
              <p:cNvPr id="228" name="AutoShape 110"/>
              <p:cNvSpPr/>
              <p:nvPr/>
            </p:nvSpPr>
            <p:spPr>
              <a:xfrm>
                <a:off x="1220760" y="4233960"/>
                <a:ext cx="666720" cy="1768320"/>
              </a:xfrm>
              <a:custGeom>
                <a:avLst/>
                <a:gdLst>
                  <a:gd name="textAreaLeft" fmla="*/ 32400 w 666720"/>
                  <a:gd name="textAreaRight" fmla="*/ 634320 w 666720"/>
                  <a:gd name="textAreaTop" fmla="*/ 32400 h 1768320"/>
                  <a:gd name="textAreaBottom" fmla="*/ 1735920 h 1768320"/>
                </a:gdLst>
                <a:ahLst/>
                <a:rect l="textAreaLeft" t="textAreaTop" r="textAreaRight" b="textAreaBottom"/>
                <a:pathLst>
                  <a:path w="21600" h="57270">
                    <a:moveTo>
                      <a:pt x="3600" y="0"/>
                    </a:moveTo>
                    <a:arcTo wR="3600" hR="3600" stAng="16200000" swAng="-5400000"/>
                    <a:lnTo>
                      <a:pt x="0" y="53670"/>
                    </a:lnTo>
                    <a:arcTo wR="3600" hR="3600" stAng="10800000" swAng="-5400000"/>
                    <a:lnTo>
                      <a:pt x="18000" y="5727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111"/>
              <p:cNvSpPr/>
              <p:nvPr/>
            </p:nvSpPr>
            <p:spPr>
              <a:xfrm>
                <a:off x="1454040" y="5592600"/>
                <a:ext cx="198720" cy="196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2"/>
              <p:cNvSpPr/>
              <p:nvPr/>
            </p:nvSpPr>
            <p:spPr>
              <a:xfrm>
                <a:off x="1469880" y="4545000"/>
                <a:ext cx="168480" cy="80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13"/>
          <p:cNvGrpSpPr/>
          <p:nvPr/>
        </p:nvGrpSpPr>
        <p:grpSpPr>
          <a:xfrm>
            <a:off x="561960" y="4748040"/>
            <a:ext cx="1073160" cy="230400"/>
            <a:chOff x="561960" y="4748040"/>
            <a:chExt cx="1073160" cy="230400"/>
          </a:xfrm>
        </p:grpSpPr>
        <p:grpSp>
          <p:nvGrpSpPr>
            <p:cNvPr id="232" name="Group 114"/>
            <p:cNvGrpSpPr/>
            <p:nvPr/>
          </p:nvGrpSpPr>
          <p:grpSpPr>
            <a:xfrm>
              <a:off x="561960" y="4749840"/>
              <a:ext cx="162000" cy="228600"/>
              <a:chOff x="561960" y="4749840"/>
              <a:chExt cx="162000" cy="228600"/>
            </a:xfrm>
          </p:grpSpPr>
          <p:sp>
            <p:nvSpPr>
              <p:cNvPr id="233" name="Line 115"/>
              <p:cNvSpPr/>
              <p:nvPr/>
            </p:nvSpPr>
            <p:spPr>
              <a:xfrm>
                <a:off x="561960" y="4749840"/>
                <a:ext cx="160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16"/>
              <p:cNvSpPr/>
              <p:nvPr/>
            </p:nvSpPr>
            <p:spPr>
              <a:xfrm>
                <a:off x="563400" y="4978440"/>
                <a:ext cx="16056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Line 117"/>
            <p:cNvSpPr/>
            <p:nvPr/>
          </p:nvSpPr>
          <p:spPr>
            <a:xfrm>
              <a:off x="1474560" y="4748040"/>
              <a:ext cx="1605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6953400" y="1309680"/>
            <a:ext cx="1779120" cy="4012920"/>
            <a:chOff x="6953400" y="1309680"/>
            <a:chExt cx="1779120" cy="4012920"/>
          </a:xfrm>
        </p:grpSpPr>
        <p:graphicFrame>
          <p:nvGraphicFramePr>
            <p:cNvPr id="237" name="Object 3"/>
            <p:cNvGraphicFramePr/>
            <p:nvPr/>
          </p:nvGraphicFramePr>
          <p:xfrm>
            <a:off x="6953400" y="1885680"/>
            <a:ext cx="1752480" cy="274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3400" y="1885680"/>
                      <a:ext cx="175248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Text Box 4"/>
            <p:cNvSpPr/>
            <p:nvPr/>
          </p:nvSpPr>
          <p:spPr>
            <a:xfrm>
              <a:off x="7774560" y="479556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B/Se/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"/>
            <p:cNvSpPr/>
            <p:nvPr/>
          </p:nvSpPr>
          <p:spPr>
            <a:xfrm>
              <a:off x="7013160" y="130968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Body Flu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6"/>
            <p:cNvSpPr/>
            <p:nvPr/>
          </p:nvSpPr>
          <p:spPr>
            <a:xfrm>
              <a:off x="7021800" y="4680000"/>
              <a:ext cx="71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B/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Sa/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7"/>
          <p:cNvGrpSpPr/>
          <p:nvPr/>
        </p:nvGrpSpPr>
        <p:grpSpPr>
          <a:xfrm>
            <a:off x="147960" y="1278000"/>
            <a:ext cx="5689800" cy="3835440"/>
            <a:chOff x="147960" y="1278000"/>
            <a:chExt cx="5689800" cy="3835440"/>
          </a:xfrm>
        </p:grpSpPr>
        <p:grpSp>
          <p:nvGrpSpPr>
            <p:cNvPr id="243" name="Group 8"/>
            <p:cNvGrpSpPr/>
            <p:nvPr/>
          </p:nvGrpSpPr>
          <p:grpSpPr>
            <a:xfrm>
              <a:off x="386280" y="1278000"/>
              <a:ext cx="5451480" cy="3835440"/>
              <a:chOff x="386280" y="1278000"/>
              <a:chExt cx="5451480" cy="3835440"/>
            </a:xfrm>
          </p:grpSpPr>
          <p:graphicFrame>
            <p:nvGraphicFramePr>
              <p:cNvPr id="244" name="Object 9"/>
              <p:cNvGraphicFramePr/>
              <p:nvPr/>
            </p:nvGraphicFramePr>
            <p:xfrm>
              <a:off x="1560600" y="1852560"/>
              <a:ext cx="4232160" cy="2860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5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560600" y="1852560"/>
                        <a:ext cx="4232160" cy="286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6" name="Text Box 10"/>
              <p:cNvSpPr/>
              <p:nvPr/>
            </p:nvSpPr>
            <p:spPr>
              <a:xfrm>
                <a:off x="3129840" y="1278000"/>
                <a:ext cx="120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ook Antiqua"/>
                  </a:rPr>
                  <a:t>Seme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1"/>
              <p:cNvGrpSpPr/>
              <p:nvPr/>
            </p:nvGrpSpPr>
            <p:grpSpPr>
              <a:xfrm>
                <a:off x="386280" y="4667400"/>
                <a:ext cx="5451480" cy="446040"/>
                <a:chOff x="386280" y="4667400"/>
                <a:chExt cx="5451480" cy="446040"/>
              </a:xfrm>
            </p:grpSpPr>
            <p:sp>
              <p:nvSpPr>
                <p:cNvPr id="248" name="Text Box 12"/>
                <p:cNvSpPr/>
                <p:nvPr/>
              </p:nvSpPr>
              <p:spPr>
                <a:xfrm>
                  <a:off x="1683360" y="4684680"/>
                  <a:ext cx="57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0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13"/>
                <p:cNvSpPr/>
                <p:nvPr/>
              </p:nvSpPr>
              <p:spPr>
                <a:xfrm>
                  <a:off x="2538720" y="4684680"/>
                  <a:ext cx="57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1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14"/>
                <p:cNvSpPr/>
                <p:nvPr/>
              </p:nvSpPr>
              <p:spPr>
                <a:xfrm>
                  <a:off x="3405600" y="4684680"/>
                  <a:ext cx="57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5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Text Box 15"/>
                <p:cNvSpPr/>
                <p:nvPr/>
              </p:nvSpPr>
              <p:spPr>
                <a:xfrm>
                  <a:off x="4218120" y="4684680"/>
                  <a:ext cx="703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25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16"/>
                <p:cNvSpPr/>
                <p:nvPr/>
              </p:nvSpPr>
              <p:spPr>
                <a:xfrm>
                  <a:off x="5003280" y="4684680"/>
                  <a:ext cx="834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100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17"/>
                <p:cNvSpPr/>
                <p:nvPr/>
              </p:nvSpPr>
              <p:spPr>
                <a:xfrm>
                  <a:off x="386280" y="4667400"/>
                  <a:ext cx="999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Book Antiqua"/>
                    </a:rPr>
                    <a:t>Extrac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8"/>
                <p:cNvSpPr/>
                <p:nvPr/>
              </p:nvSpPr>
              <p:spPr>
                <a:xfrm>
                  <a:off x="550800" y="5113440"/>
                  <a:ext cx="5273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Text Box 19"/>
            <p:cNvSpPr/>
            <p:nvPr/>
          </p:nvSpPr>
          <p:spPr>
            <a:xfrm>
              <a:off x="147960" y="2664000"/>
              <a:ext cx="126108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50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se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extracted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</a:rPr>
                <a:t>1 m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20"/>
          <p:cNvSpPr/>
          <p:nvPr/>
        </p:nvSpPr>
        <p:spPr>
          <a:xfrm>
            <a:off x="6718320" y="6516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Gill Sans MT"/>
              </a:rPr>
              <a:t>S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0" y="598320"/>
            <a:ext cx="9140760" cy="101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2" descr=""/>
          <p:cNvPicPr/>
          <p:nvPr/>
        </p:nvPicPr>
        <p:blipFill>
          <a:blip r:embed="rId5"/>
          <a:stretch/>
        </p:blipFill>
        <p:spPr>
          <a:xfrm>
            <a:off x="115920" y="54000"/>
            <a:ext cx="758880" cy="133344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23"/>
          <p:cNvGrpSpPr/>
          <p:nvPr/>
        </p:nvGrpSpPr>
        <p:grpSpPr>
          <a:xfrm>
            <a:off x="466920" y="5264280"/>
            <a:ext cx="5248080" cy="371160"/>
            <a:chOff x="466920" y="5264280"/>
            <a:chExt cx="5248080" cy="371160"/>
          </a:xfrm>
        </p:grpSpPr>
        <p:sp>
          <p:nvSpPr>
            <p:cNvPr id="260" name="Text Box 24"/>
            <p:cNvSpPr/>
            <p:nvPr/>
          </p:nvSpPr>
          <p:spPr>
            <a:xfrm>
              <a:off x="466920" y="526716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Se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1697400" y="526428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0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6"/>
            <p:cNvSpPr/>
            <p:nvPr/>
          </p:nvSpPr>
          <p:spPr>
            <a:xfrm>
              <a:off x="2480400" y="526716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50 n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7"/>
            <p:cNvSpPr/>
            <p:nvPr/>
          </p:nvSpPr>
          <p:spPr>
            <a:xfrm>
              <a:off x="3282480" y="52671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250 n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8"/>
            <p:cNvSpPr/>
            <p:nvPr/>
          </p:nvSpPr>
          <p:spPr>
            <a:xfrm>
              <a:off x="4138560" y="52642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1.25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9"/>
            <p:cNvSpPr/>
            <p:nvPr/>
          </p:nvSpPr>
          <p:spPr>
            <a:xfrm>
              <a:off x="5148720" y="526428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5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Book Antiqu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"/>
          <p:cNvGraphicFramePr/>
          <p:nvPr/>
        </p:nvGraphicFramePr>
        <p:xfrm>
          <a:off x="390600" y="1133640"/>
          <a:ext cx="8601120" cy="473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133640"/>
                    <a:ext cx="8601120" cy="47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3"/>
          <p:cNvSpPr/>
          <p:nvPr/>
        </p:nvSpPr>
        <p:spPr>
          <a:xfrm>
            <a:off x="6718320" y="6516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Gill Sans MT"/>
              </a:rPr>
              <a:t>S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598320"/>
            <a:ext cx="9140760" cy="101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115920" y="54000"/>
            <a:ext cx="7588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705720" y="77760"/>
            <a:ext cx="23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Gill Sans MT"/>
              </a:rPr>
              <a:t>S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611280"/>
            <a:ext cx="9140760" cy="101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8440" y="5216400"/>
            <a:ext cx="89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fficient: Assay procedure integrated in DNA-ST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-96480" y="3571920"/>
            <a:ext cx="74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ast: Results in 10 minutes post stain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98640" y="4241880"/>
            <a:ext cx="8332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nsitive:  Detects 50-100 nl of human semen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tated detection limit: 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-47880" y="1806480"/>
            <a:ext cx="789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observed cross reaction with other body flui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omestic anima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xotic speci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ody fluid mixture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0880" y="1036800"/>
            <a:ext cx="924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First</a:t>
            </a:r>
            <a:r>
              <a:rPr b="1" i="1" lang="en-US" sz="3000" spc="-1" strike="noStrike">
                <a:solidFill>
                  <a:srgbClr val="000000"/>
                </a:solidFill>
                <a:latin typeface="Book Antiqua"/>
              </a:rPr>
              <a:t> Confirmatory </a:t>
            </a:r>
            <a:r>
              <a:rPr b="1" lang="en-US" sz="3000" spc="-1" strike="noStrike">
                <a:solidFill>
                  <a:srgbClr val="000000"/>
                </a:solidFill>
                <a:latin typeface="Book Antiqua"/>
              </a:rPr>
              <a:t>Test for Human Seminal Fl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6:21:04Z</dcterms:created>
  <dc:creator>Karl Reich</dc:creator>
  <dc:description/>
  <dc:language>en-US</dc:language>
  <cp:lastModifiedBy>Leslie Valenti</cp:lastModifiedBy>
  <dcterms:modified xsi:type="dcterms:W3CDTF">2012-09-05T16:29:56Z</dcterms:modified>
  <cp:revision>2</cp:revision>
  <dc:subject/>
  <dc:title>Slide 1</dc:title>
</cp:coreProperties>
</file>